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6924-A390-405D-B067-1FAEB8C9238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3DD-1D76-45E9-AB52-7524704DD6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14DE-9BAD-4B35-9CA5-DC663103FE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4F9C-DB95-470F-85B5-A4FC4B9C08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AC1-4A0B-447E-A38C-87DD67897D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99B-7403-4068-94B1-AC8E1ABFD1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335-C3E0-4B35-A660-50813A9D44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3CE4-D9EC-4D6C-9B0C-3149D47BA3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65F-6B99-46FB-8A27-E1443586FF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2909-8850-42B8-87EB-B26883EC4E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CD1-8C7F-4C54-AFF8-738C6874B4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A7A-5885-4090-B702-895787D127A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F2E7-A10C-4073-887C-F1368BEEA1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FD9-D557-45D4-8ACC-42DEA28C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307-B695-49E4-912F-D0EE252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D4B7E-D103-4739-8982-97851A6F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CEB24-30FB-4E28-A545-901AB3A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66BBB-5A54-4A93-B2EB-FD4B7E4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A070B-42B0-44E8-AF9C-DEDFCED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7E060-9217-4BAA-9F22-3786A5E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CF40D-BBD4-470E-96A7-49B4A6B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F044D-53A9-4D14-BF3B-4FDA492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3471B-6BD9-4468-8232-3E23D309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FCE8-A479-4FED-BC7C-AE62E3D7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39287-0C04-4612-AD0E-34A69B5A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675-9B77-4566-B46E-E831F497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B9824-CB69-42EF-9C62-17BB230F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BB725-FE35-4B79-9F52-228514A0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71E31-A9E3-4BA7-B57B-9288F78F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F8CC5-88C9-493A-96E2-F18451B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911D-74F7-442E-902F-4C0F1BA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11C9-BA66-4021-B04F-3B78E796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D5ECA-5241-4ABF-B273-830EB95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0BC0E-CE93-4CA2-86E4-705DF01B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C7A0B-A2E3-47ED-8CFF-36862BA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3DF86-7356-41DC-A872-B2C83741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A70-4DFA-40FD-97B0-8961A8F8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C97CD-83DE-4E12-9DF9-A8631A36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3FAD-3697-4DB1-AA2C-9E6FB2E2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E930-66F2-4358-8636-EFBA5F3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56DCB-70AD-44C6-B840-20F4751C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31E5-08DD-4843-87E2-70700F3D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6C1B-6702-42F4-97AA-29A971F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CB4F-8D49-49CA-AFDE-2D65FD5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FA07-2AC5-4361-BEFD-083D490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E2FC1-232A-4932-A191-0E766E7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B9B3-7FFC-4C58-8036-CF31030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9C5A-A64D-4944-9A57-80EA8710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641FD-63EE-4AC2-88BC-34FB08D6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2D277-5FF5-490D-8059-DD48878D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39D53-BE6B-4D2B-A681-3972261F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2E2FB-D7C1-4413-8414-ED8BEA56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502F-4C5F-4C46-A311-49D9F543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9A583-3828-4EA7-A5DC-65E2C5E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F3CD1-7AF5-443E-9FB4-788D1EB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C1764-8D73-46A5-B85D-B3FE7CC6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D592F-9D15-484F-B970-7E6F0146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5375F-99E7-426A-8D71-BA7AA25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1C77-6FAA-44F0-8441-860EBE41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79A2D-282C-47CF-B9EA-4C3A7CCF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C3515-9825-4110-AE9E-3E2E4DB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E2A24-9F49-4BFD-B05E-EDF366CD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21AC0-747F-4234-A53C-FD6AC005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A1918-DBEA-43B2-8A92-6BC4D987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DB9-47B9-4AAD-A65C-98D97B7C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0F51-7AEC-44AD-B714-7FF2101D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D57-BC91-4578-811C-F9938E7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DB1-D351-4690-B1B1-33D66836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C8C6-0645-43A0-B764-E79AF1F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7C2-6F45-4E85-9F76-4C6103F3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FB6-2BE8-451B-B4F5-C4D9738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F39-25B6-43BD-94A0-A4456A4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65A4-0597-4FE8-853B-69C399B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437-03C6-4919-8CF5-2A32E3B7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7E7-3BA7-42F2-8BE2-66B9036E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88F3-19FE-4EFC-A66A-66CDA193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7CBA-C6B2-4F59-B6D7-CCF7A07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BFD7-EE40-45D9-BC20-E743189D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35D9-DDB6-4D67-BF67-06DE90A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8124-6E82-4097-8769-603D81B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323-CBCF-45A8-9CB2-CF08AA0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5566-6E31-47F1-BF06-F924E58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4770-98A5-4A95-8EEB-7D759A8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19F5-8A3B-447D-B77C-9D19DAB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36E5-6770-4F89-B12F-A9B7816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FBC5-6838-4CC0-B392-6D47E39A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D86C-F131-4890-9414-DB8CC209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285E-AEAC-407A-A63C-C6178423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6FE1-ECE2-44DA-AE45-8308FD37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D7B2-273D-4734-9128-FAD00032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B715-7AC8-4674-9FB5-78BD4BC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B45-2F43-4BD1-8453-5E632AD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BFE1-86F2-453A-A5E0-7430C5A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2BD5-97BC-4BE1-8381-A8ADFD5F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2937-0E16-458E-B07B-0061A8B2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B3A0-E496-4001-8366-544A265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0892-D271-4631-8339-CD3229D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B8B2-317D-446B-B376-CA13473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5BFD-3F11-4779-B46B-A3A6406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99D8-4706-415C-B00D-036BE005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2232-6411-4D38-B1EC-160C66C8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4A5D-AEFC-42BD-93D4-8890FD30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97-5DD9-475F-8A6E-8164A1B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DB76-CDF6-4095-87B9-9024DA2B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CD177-CEE3-4B10-9AF1-0E362BB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9266-44E7-451C-8812-10844A2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8E392-C603-4BAD-9636-733B374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BFF1-2692-40CD-B797-DEA9A3F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0953-4F18-4570-984C-33BEAB5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ACFC4-6417-45CD-B416-5A8C400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28B4-8339-4AF0-9336-AEF146EB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70F8-2808-46C0-BC01-E82B7D5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ED75-F0BC-40F1-8A0B-08EBF25F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81E-BCFA-4EFC-8327-7A16413F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E31A-23D7-4945-8BD0-121E5115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849A-25EC-4515-B977-40796B6C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2A4C-5637-45AC-9A6A-40597EE2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2B66-D6EB-40B2-B822-EC60987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AAF8-CE68-4BCF-8EE6-8662155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A23C-2C50-4032-B4A1-766115E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A5B5-8427-4F8B-84B6-F0619C6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E590D-6D44-42A8-ABC6-8E49E72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704F-B2BF-4FE8-9019-E811D03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CF46A-45FA-48AF-A772-D7CAD57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CC0-D36D-46B4-BC1E-2BECEE7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4AF3-3D73-46C0-953B-1D903CA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5EB5-7022-49E0-938A-E9DC153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708AE-4B60-4C7A-B71A-8432EF0A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FC69-7E92-4554-802E-65538BD6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52BD-4930-4FEE-A222-780DC8C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436B-208C-46B4-97EB-E8E13A03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991D-222B-47C7-93AF-2A5315D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56B5-4FA3-4F7F-ACF5-0BF41842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8811-6E75-46A3-A56A-64EE923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9594-C1AE-4948-A41F-C077F3F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7A2-43B1-4693-918C-1A8CACF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008A-BB5D-4D13-8D14-0E51BA1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79BA-263F-43E1-8B18-CAF2B75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FD2A-F25B-44E7-AF5A-B27C8F6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6D78-CB24-4FFD-887C-494E9F9D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F220-8769-46EF-95F4-B34A80D8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3879-E2EB-4C57-9AE7-5EB27F04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DA26-BD29-4BA0-8A7A-AB7F6956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2C32-F401-4F67-80AE-55A1D47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97A5-CE9D-4DF0-87A3-F68CC1A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A9F9-C60A-4212-8E59-6CD25BE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B4C-4953-4C61-96F6-AEAE9A8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E27E-3567-4237-AAA8-683F2189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3ADD-148B-4ADE-9E98-868A058C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1CEE-5236-401A-9667-389043A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F4554-1F70-4305-9442-21A0826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FAE6-F3AC-4CBE-B696-F710F3CE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76DB8-D04E-4274-A474-1BDBE5C5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1513-596D-4818-91F3-D2BFD903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94667-6A89-4957-8769-D019E06F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DD874-151E-42CF-ADE1-44940C3E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A5F9E-4953-46AC-AAA8-A05F5D5F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pel-pediatri.it/Direttivo/direttivo2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AE7-D1BF-401E-AC1B-F4694A9134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29" descr="APEL_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628164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30"/>
          <p:cNvSpPr/>
          <p:nvPr/>
        </p:nvSpPr>
        <p:spPr>
          <a:xfrm>
            <a:off x="6044400" y="63342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Comic Sans MS"/>
              </a:rPr>
              <a:t>www.apel-pediatri.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" name="Picture 1031" descr="fimp"/>
          <p:cNvPicPr/>
          <p:nvPr/>
        </p:nvPicPr>
        <p:blipFill>
          <a:blip r:embed="rId4"/>
          <a:stretch/>
        </p:blipFill>
        <p:spPr>
          <a:xfrm>
            <a:off x="0" y="6316560"/>
            <a:ext cx="15476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9E2-98F4-4EC1-8182-067D57052B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04B-034A-4D1B-8F83-3D8378FEEC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26DE-BA77-420E-999A-EFA30A80CB6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CD7-8263-42E8-A508-54990BD2DF4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61AB-4C19-4663-BF4F-F600B43697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71D-D48A-405C-A3B9-56BCB2DD0AB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BAE-D938-4E90-A88D-BF2324C50DA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E1A0-B4BE-4486-9622-164708EA12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761-5FFF-4884-84BE-69485ABFF6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A755-AE79-4E99-99A1-1119F98058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931-310A-48CC-A64A-64EFA8FFE8C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pressonline.it/" TargetMode="External"/><Relationship Id="rId2" Type="http://schemas.openxmlformats.org/officeDocument/2006/relationships/hyperlink" Target="http://www.espressonline.it/" TargetMode="External"/><Relationship Id="rId3" Type="http://schemas.openxmlformats.org/officeDocument/2006/relationships/hyperlink" Target="http://www.espressonline.it/" TargetMode="External"/><Relationship Id="rId4" Type="http://schemas.openxmlformats.org/officeDocument/2006/relationships/hyperlink" Target="http://www.espressonline.it/" TargetMode="External"/><Relationship Id="rId5" Type="http://schemas.openxmlformats.org/officeDocument/2006/relationships/hyperlink" Target="http://www.espressonline.it/" TargetMode="External"/><Relationship Id="rId6" Type="http://schemas.openxmlformats.org/officeDocument/2006/relationships/hyperlink" Target="http://www.espressonline.it/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1377360" y="3630600"/>
            <a:ext cx="629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Comic Sans MS"/>
              </a:rPr>
              <a:t>FEBBRE IN PEDIATRIA</a:t>
            </a: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rcRect l="49530" t="28174" r="29724" b="23597"/>
          <a:stretch/>
        </p:blipFill>
        <p:spPr>
          <a:xfrm>
            <a:off x="0" y="1125360"/>
            <a:ext cx="3510000" cy="458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rcRect l="29522" t="16531" r="31183" b="14562"/>
          <a:stretch/>
        </p:blipFill>
        <p:spPr>
          <a:xfrm>
            <a:off x="2496960" y="333360"/>
            <a:ext cx="6647040" cy="65516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0" y="-2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estione febbre in pediatria  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LG SIP 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ttangolo 1"/>
          <p:cNvSpPr/>
          <p:nvPr/>
        </p:nvSpPr>
        <p:spPr>
          <a:xfrm>
            <a:off x="0" y="1268280"/>
            <a:ext cx="914400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Intossicazione acuta da paracetamol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oressia, nausea, vomito, malessere e diaforesi sono i segni più precoci di intossicazione da paracetamol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fortunatamente essi possono essere erroneamente interpretati come segni della patologia di base (ad esempio una sindrome influenzale), ritardando la diagnosi ed il tratt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0" y="-2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estione febbre in pediatria  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LG SIP 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29052" t="17347" r="29724" b="26550"/>
          <a:stretch/>
        </p:blipFill>
        <p:spPr>
          <a:xfrm>
            <a:off x="684360" y="620640"/>
            <a:ext cx="8045280" cy="61563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0" y="-2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estione febbre in pediatria  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LG SIP 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rcRect l="15218" t="24237" r="20585" b="6250"/>
          <a:stretch/>
        </p:blipFill>
        <p:spPr>
          <a:xfrm>
            <a:off x="-36360" y="765000"/>
            <a:ext cx="918828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97920" y="1701000"/>
            <a:ext cx="9082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Analgesici/antipiretici= Farmaci pericolosi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maggior parte delle medicine prodotte per us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diatrico sono state sperimentate solo sugli adult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perciò vengono prescritte in modo sbaglia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6">
            <a:hlinkClick r:id="rId1"/>
          </p:cNvPr>
          <p:cNvSpPr/>
          <p:nvPr/>
        </p:nvSpPr>
        <p:spPr>
          <a:xfrm>
            <a:off x="168120" y="46080"/>
            <a:ext cx="3753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AutoShape 10">
            <a:hlinkClick r:id="rId2"/>
          </p:cNvPr>
          <p:cNvSpPr/>
          <p:nvPr/>
        </p:nvSpPr>
        <p:spPr>
          <a:xfrm>
            <a:off x="168120" y="46080"/>
            <a:ext cx="3753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4278240" cy="1066680"/>
        </p:xfrm>
        <a:graphic>
          <a:graphicData uri="http://schemas.openxmlformats.org/drawingml/2006/table">
            <a:tbl>
              <a:tblPr/>
              <a:tblGrid>
                <a:gridCol w="4059360"/>
                <a:gridCol w="218880"/>
              </a:tblGrid>
              <a:tr h="10692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  </a:t>
                      </a:r>
                      <a:r>
                        <a:rPr b="0" lang="it-IT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12">
            <a:hlinkClick r:id="rId4"/>
          </p:cNvPr>
          <p:cNvSpPr/>
          <p:nvPr/>
        </p:nvSpPr>
        <p:spPr>
          <a:xfrm>
            <a:off x="168120" y="46080"/>
            <a:ext cx="3753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0" y="0"/>
          <a:ext cx="4278240" cy="1066680"/>
        </p:xfrm>
        <a:graphic>
          <a:graphicData uri="http://schemas.openxmlformats.org/drawingml/2006/table">
            <a:tbl>
              <a:tblPr/>
              <a:tblGrid>
                <a:gridCol w="4059360"/>
                <a:gridCol w="218880"/>
              </a:tblGrid>
              <a:tr h="10692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  </a:t>
                      </a:r>
                      <a:r>
                        <a:rPr b="0" lang="it-IT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AutoShape 26">
            <a:hlinkClick r:id="rId6"/>
          </p:cNvPr>
          <p:cNvSpPr/>
          <p:nvPr/>
        </p:nvSpPr>
        <p:spPr>
          <a:xfrm>
            <a:off x="168120" y="46080"/>
            <a:ext cx="3753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-248760" y="819000"/>
            <a:ext cx="930960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Calibri"/>
              </a:rPr>
              <a:t>INDICAZIONI ALL’USO DEI FANS NEL BAMBI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ebb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tologia dolorosa e flogo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lattie reumatic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uso “curativo” nella flogosi delle alte vie respiratori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ppresenta una pratica sbagliata e potenzialmen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annosa in quanto, a fronte di possibili effetti collateral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non è stata dimostrata in studi scientifici pubblica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alcuna efficaci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028"/>
          <p:cNvSpPr/>
          <p:nvPr/>
        </p:nvSpPr>
        <p:spPr>
          <a:xfrm>
            <a:off x="34920" y="1197000"/>
            <a:ext cx="91090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Calibri"/>
              </a:rPr>
              <a:t>Quali FANS nei bambini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BUPROF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ARACETAMO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ICLOFENAC: da 1 a 12 anni affetti da artrite giovan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CIDO MEFENAMICO: nei bambini di oltre 6 mesi di e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IROXICAM: sopra ai 6 anni nell’artrite giovan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Guida all’uso dei farmaci” distribuito dal Ministero della Salu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rcRect l="17982" t="19316" r="18372" b="14734"/>
          <a:stretch/>
        </p:blipFill>
        <p:spPr>
          <a:xfrm>
            <a:off x="34920" y="1341360"/>
            <a:ext cx="91090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rcRect l="17982" t="27190" r="17819" b="6250"/>
          <a:stretch/>
        </p:blipFill>
        <p:spPr>
          <a:xfrm>
            <a:off x="108000" y="1341360"/>
            <a:ext cx="9020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324000" y="90792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Febbre nei primi 3 mesi di vi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 problema particolare è posto dalla febbre nei primi 2 anni di vita e, in particolare,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nei primi 2-3 mesi di vit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7%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fezione batterica severa (SBI), di questi il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2,5%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meningite o seps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L’incidenza di batteriemia e di sepsi e di SBI è più alta nel primo mese di vi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rcRect l="50636" t="11437" r="27229" b="17687"/>
          <a:stretch/>
        </p:blipFill>
        <p:spPr>
          <a:xfrm>
            <a:off x="4773600" y="115920"/>
            <a:ext cx="3686040" cy="66373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287280" y="1760400"/>
            <a:ext cx="3924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Gestione del segno/sintomo febbre in pediatri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inea Guida Società Italiana di Pediatria, 201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2340000" y="10526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0000"/>
                </a:solidFill>
                <a:uFillTx/>
                <a:latin typeface="Calibri"/>
              </a:rPr>
              <a:t>Infezioni batteriche gra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batteriem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mening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cellul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osteomiel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artrite set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infezione cutan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enterite batte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polmon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infezione delle vie urinar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otite purulen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1760400"/>
            <a:ext cx="3924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Gestione del segno/sintomo febbre in pediatri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inea Guida Società Italiana di Pediatria, 201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rcRect l="20751" t="16363" r="50473" b="11781"/>
          <a:stretch/>
        </p:blipFill>
        <p:spPr>
          <a:xfrm>
            <a:off x="4211640" y="38160"/>
            <a:ext cx="479268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0" y="1760400"/>
            <a:ext cx="3924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Gestione del segno/sintomo febbre in pediatri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inea Guida Società Italiana di Pediatria, 201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rcRect l="24625" t="18332" r="51580" b="10797"/>
          <a:stretch/>
        </p:blipFill>
        <p:spPr>
          <a:xfrm>
            <a:off x="4932360" y="44280"/>
            <a:ext cx="3962520" cy="6635880"/>
          </a:xfrm>
          <a:prstGeom prst="rect">
            <a:avLst/>
          </a:prstGeom>
          <a:ln w="0">
            <a:noFill/>
          </a:ln>
        </p:spPr>
      </p:pic>
      <p:sp>
        <p:nvSpPr>
          <p:cNvPr id="509" name="Rettangolo 4"/>
          <p:cNvSpPr/>
          <p:nvPr/>
        </p:nvSpPr>
        <p:spPr>
          <a:xfrm>
            <a:off x="4906800" y="6377040"/>
            <a:ext cx="42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particolari circostanz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(come &lt;3 mesi e/o presenza di leucocitosi e/o incremento degli indici di flogos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rcRect l="19670" t="16363" r="18995" b="16703"/>
          <a:stretch/>
        </p:blipFill>
        <p:spPr>
          <a:xfrm>
            <a:off x="0" y="982800"/>
            <a:ext cx="91774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026" descr=""/>
          <p:cNvPicPr/>
          <p:nvPr/>
        </p:nvPicPr>
        <p:blipFill>
          <a:blip r:embed="rId1"/>
          <a:srcRect l="1255" t="13086" r="47643" b="12356"/>
          <a:stretch/>
        </p:blipFill>
        <p:spPr>
          <a:xfrm>
            <a:off x="1476360" y="0"/>
            <a:ext cx="58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ttangolo 1"/>
          <p:cNvSpPr/>
          <p:nvPr/>
        </p:nvSpPr>
        <p:spPr>
          <a:xfrm>
            <a:off x="0" y="4428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ssociazione fra impiego di acido acetilsalicilico e sindrome di Rey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La sindrome di Rey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descritta per la prima volta nel 1963, è una condizione grave, potenzialmente fatale, caratterizzata da encefalopatia acuta ed epatopatia. L’esordio può avvenire in bambini e giovani adulti generalmente dopo un infezione virale, in particolare modo sindrome influenzale e varicella, e può comprendere vomito, irritabilità, alterazioni dello stato di coscienza, confusione mentale o comportamento irrazionale e convulsioni 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chrör K. Paediatr Drugs. 2007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o Belay ED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et al. (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Belay ED et al. 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ngl J Med 1999) dal 1987, ovvero da quand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è stata riportata l’associazione con l’impiego dell’ASA, i casi di sindrome di Reye riportate nei bambini statunitensi si sono drammaticamente ridotti da oltre 500 a meno di 40 casi/an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meccanismi alla base di tale associazione non sono chia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115920"/>
            <a:ext cx="4932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Gestione del segno/sintomo febbre in pediatri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Linea Guida Società Italiana di Pediatria, 201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rcRect l="50083" t="17347" r="26122" b="17687"/>
          <a:stretch/>
        </p:blipFill>
        <p:spPr>
          <a:xfrm>
            <a:off x="5003640" y="115920"/>
            <a:ext cx="3964320" cy="6083280"/>
          </a:xfrm>
          <a:prstGeom prst="rect">
            <a:avLst/>
          </a:prstGeom>
          <a:ln w="0">
            <a:noFill/>
          </a:ln>
        </p:spPr>
      </p:pic>
      <p:sp>
        <p:nvSpPr>
          <p:cNvPr id="515" name="Rettangolo 5"/>
          <p:cNvSpPr/>
          <p:nvPr/>
        </p:nvSpPr>
        <p:spPr>
          <a:xfrm>
            <a:off x="108000" y="25653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aracetam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er via orale): 10- 15/mg/kg/dose (massimo 1 g/dose) per 4 o 6 somministrazioni/die (ogni 4-6 ore); dosaggio terapeutico massimo 60 mg/kg/die nel bambino fino a 3 mesi, 80 mg/kg/die nel bambino sopra i 3 mesi di età (massimo 3 g/die); dosaggio tossico &gt;150 mg/kg in un’unica somministrazione. -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buprofe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10 mg/kg/dose (massimo 800 mg/dose) per 3 o 4 somministrazioni (ogni 6-8 ore). dosaggio terapeutico massimo: 30 mg/kg/die (massimo 1,2 g/die); dosaggio tossico &gt;100 mg/kg/di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(livello di prova: I; forza della raccomandazione A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ttangolo 6"/>
          <p:cNvSpPr/>
          <p:nvPr/>
        </p:nvSpPr>
        <p:spPr>
          <a:xfrm>
            <a:off x="5076720" y="6093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tato di disidratazi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0" y="-2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estione febbre in pediatria  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LG SIP 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rcRect l="29052" t="16358" r="51027" b="11781"/>
          <a:stretch/>
        </p:blipFill>
        <p:spPr>
          <a:xfrm>
            <a:off x="1127160" y="485640"/>
            <a:ext cx="3084480" cy="625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9" name="Picture 3" descr=""/>
          <p:cNvPicPr/>
          <p:nvPr/>
        </p:nvPicPr>
        <p:blipFill>
          <a:blip r:embed="rId2"/>
          <a:srcRect l="28972" t="50005" r="51663" b="17515"/>
          <a:stretch/>
        </p:blipFill>
        <p:spPr>
          <a:xfrm>
            <a:off x="5573880" y="189000"/>
            <a:ext cx="3225600" cy="304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3"/>
          <a:srcRect l="50003" t="24409" r="30079" b="37913"/>
          <a:stretch/>
        </p:blipFill>
        <p:spPr>
          <a:xfrm>
            <a:off x="5573880" y="3213000"/>
            <a:ext cx="3319200" cy="3529080"/>
          </a:xfrm>
          <a:prstGeom prst="rect">
            <a:avLst/>
          </a:prstGeom>
          <a:ln w="0">
            <a:noFill/>
          </a:ln>
        </p:spPr>
      </p:pic>
      <p:sp>
        <p:nvSpPr>
          <p:cNvPr id="521" name="Rettangolo 8"/>
          <p:cNvSpPr/>
          <p:nvPr/>
        </p:nvSpPr>
        <p:spPr>
          <a:xfrm>
            <a:off x="5580000" y="189000"/>
            <a:ext cx="3313080" cy="655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18:50:47Z</dcterms:created>
  <dc:creator>gwen</dc:creator>
  <dc:description/>
  <dc:language>en-US</dc:language>
  <cp:lastModifiedBy>Ilaria Pezone</cp:lastModifiedBy>
  <dcterms:modified xsi:type="dcterms:W3CDTF">2023-02-08T13:18:55Z</dcterms:modified>
  <cp:revision>126</cp:revision>
  <dc:subject/>
  <dc:title>Presentazione di PowerPoint</dc:title>
</cp:coreProperties>
</file>