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DECC-4DF6-46A2-B894-CDCE832F817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7457-06B3-4148-AB24-2243505176C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7A5-3F6E-463C-A369-50B9F666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81E-6A91-43A0-95DB-0E000D04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50A-1086-49AD-B53A-F110CCD7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94B-D859-420A-B090-C34375FE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294-3A28-4DD5-968B-D42DDC46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CCE-EDA9-4BE9-B9E4-DAB09DB6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A0F-8A03-46E5-ABD0-5D3F6240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A3F-9A06-4F26-A11F-4E111770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7B4-E092-482E-B6FF-D3F175E7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070-7820-4565-A56B-6CF3B398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E5C-4302-4A7B-A9D6-67C0D40F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538-743E-4317-83F3-1FA90CB5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fd3"/>
            </a:gs>
            <a:gs pos="100000">
              <a:srgbClr val="feff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937B-56F0-49E6-B0EB-AAA421CA44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50920" y="1628640"/>
            <a:ext cx="8353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Comic Sans MS"/>
              </a:rPr>
              <a:t>Shock Anafilattic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921120" y="3141720"/>
            <a:ext cx="489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33cc"/>
                </a:solidFill>
                <a:latin typeface="Comic Sans MS"/>
              </a:rPr>
              <a:t>Dott.ssa Ilaria Pezo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33cc"/>
                </a:solidFill>
                <a:latin typeface="Comic Sans MS"/>
              </a:rPr>
              <a:t>UOC di Pediatria e Neonatolog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33cc"/>
                </a:solidFill>
                <a:latin typeface="Comic Sans MS"/>
              </a:rPr>
              <a:t>Ospedale San Giuseppe Moscati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33cc"/>
                </a:solidFill>
                <a:latin typeface="Comic Sans MS"/>
              </a:rPr>
              <a:t>Avers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magine 2" descr=""/>
          <p:cNvPicPr/>
          <p:nvPr/>
        </p:nvPicPr>
        <p:blipFill>
          <a:blip r:embed="rId1"/>
          <a:stretch/>
        </p:blipFill>
        <p:spPr>
          <a:xfrm>
            <a:off x="538200" y="3046320"/>
            <a:ext cx="28828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3600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ANAFILASSI  -  CRITERI  MAGG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208720" cy="2881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ff"/>
                </a:solidFill>
                <a:latin typeface="Comic Sans MS"/>
              </a:rPr>
              <a:t>Difficoltà respiratoria (edema laringeo, asm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ff"/>
                </a:solidFill>
                <a:latin typeface="Comic Sans MS"/>
              </a:rPr>
              <a:t>Ipotensione (collasso, perdita di coscienza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TUTTE LE ALTRE MANIFESTAZIONI CLINICHE    SONO DA CONSIDERARSI CRITERI MIN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ANAFILASSI  -  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360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Negli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ADULTI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Farm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li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diopa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E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66920" y="1523520"/>
            <a:ext cx="453708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4672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Nei </a:t>
            </a:r>
            <a:r>
              <a:rPr b="1" lang="it-IT" sz="2800" spc="-1" strike="noStrike" u="sng">
                <a:solidFill>
                  <a:srgbClr val="3333cc"/>
                </a:solidFill>
                <a:uFillTx/>
                <a:latin typeface="Comic Sans MS"/>
              </a:rPr>
              <a:t>BAMBINI</a:t>
            </a: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672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Alime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672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Farma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672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Veleno di imenott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672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EI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672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Vacc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672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La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672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Idiopatic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antibiotici1"/>
          <p:cNvPicPr/>
          <p:nvPr/>
        </p:nvPicPr>
        <p:blipFill>
          <a:blip r:embed="rId1"/>
          <a:stretch/>
        </p:blipFill>
        <p:spPr>
          <a:xfrm>
            <a:off x="2627280" y="2133720"/>
            <a:ext cx="1152720" cy="946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frutta"/>
          <p:cNvPicPr/>
          <p:nvPr/>
        </p:nvPicPr>
        <p:blipFill>
          <a:blip r:embed="rId2"/>
          <a:stretch/>
        </p:blipFill>
        <p:spPr>
          <a:xfrm>
            <a:off x="7020000" y="1844640"/>
            <a:ext cx="1828800" cy="135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ape2"/>
          <p:cNvPicPr/>
          <p:nvPr/>
        </p:nvPicPr>
        <p:blipFill>
          <a:blip r:embed="rId3"/>
          <a:stretch/>
        </p:blipFill>
        <p:spPr>
          <a:xfrm>
            <a:off x="7093080" y="3860640"/>
            <a:ext cx="1371600" cy="106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sport3461"/>
          <p:cNvPicPr/>
          <p:nvPr/>
        </p:nvPicPr>
        <p:blipFill>
          <a:blip r:embed="rId4"/>
          <a:stretch/>
        </p:blipFill>
        <p:spPr>
          <a:xfrm>
            <a:off x="1979640" y="5373720"/>
            <a:ext cx="1871640" cy="984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obesita"/>
          <p:cNvPicPr/>
          <p:nvPr/>
        </p:nvPicPr>
        <p:blipFill>
          <a:blip r:embed="rId5"/>
          <a:stretch/>
        </p:blipFill>
        <p:spPr>
          <a:xfrm>
            <a:off x="2819520" y="3200400"/>
            <a:ext cx="863640" cy="9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puntointerrig"/>
          <p:cNvPicPr/>
          <p:nvPr/>
        </p:nvPicPr>
        <p:blipFill>
          <a:blip r:embed="rId6"/>
          <a:stretch/>
        </p:blipFill>
        <p:spPr>
          <a:xfrm>
            <a:off x="2819520" y="4267080"/>
            <a:ext cx="838080" cy="889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lattice"/>
          <p:cNvPicPr/>
          <p:nvPr/>
        </p:nvPicPr>
        <p:blipFill>
          <a:blip r:embed="rId7"/>
          <a:srcRect l="3650" t="801" r="3650" b="4292"/>
          <a:stretch/>
        </p:blipFill>
        <p:spPr>
          <a:xfrm>
            <a:off x="7093080" y="5157720"/>
            <a:ext cx="1371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1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ANAFILASSI  CAUSE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468360" y="1197000"/>
          <a:ext cx="8424720" cy="48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42472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4"/>
          <p:cNvSpPr/>
          <p:nvPr/>
        </p:nvSpPr>
        <p:spPr>
          <a:xfrm>
            <a:off x="2268360" y="63086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imes New Roman"/>
              </a:rPr>
              <a:t>* </a:t>
            </a:r>
            <a:r>
              <a:rPr b="1" lang="it-IT" sz="1800" spc="-1" strike="noStrike">
                <a:solidFill>
                  <a:srgbClr val="ff3300"/>
                </a:solidFill>
                <a:latin typeface="Baskerville Old Face"/>
              </a:rPr>
              <a:t>Novembre et al Pediatrics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424720" cy="58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ANAFILASSI DA CIBO NEI BAMBINI: DIAGN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5543640" cy="3600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namnesi accurata sui possibili fattori scate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PT, RAST (le IgE specifiche non hanno valore predittivo per l’anafilas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Dieta di elimin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prick"/>
          <p:cNvPicPr/>
          <p:nvPr/>
        </p:nvPicPr>
        <p:blipFill>
          <a:blip r:embed="rId1"/>
          <a:stretch/>
        </p:blipFill>
        <p:spPr>
          <a:xfrm>
            <a:off x="6516720" y="2141640"/>
            <a:ext cx="2158920" cy="17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1" name="Picture 5" descr="dieta"/>
          <p:cNvPicPr/>
          <p:nvPr/>
        </p:nvPicPr>
        <p:blipFill>
          <a:blip r:embed="rId2"/>
          <a:stretch/>
        </p:blipFill>
        <p:spPr>
          <a:xfrm>
            <a:off x="6659640" y="4221000"/>
            <a:ext cx="2046240" cy="199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ANAFILASSI DA CIBO: ALIMENTI RESPONSABILI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395280" y="1341360"/>
          <a:ext cx="828036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28036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4"/>
          <p:cNvSpPr/>
          <p:nvPr/>
        </p:nvSpPr>
        <p:spPr>
          <a:xfrm>
            <a:off x="2771640" y="6381720"/>
            <a:ext cx="35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*Novembre et al Pediatrics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91532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ANAFILASSI DA FARMACI</a:t>
            </a:r>
            <a:r>
              <a:rPr b="1" lang="it-IT" sz="4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7917120" cy="489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Antibiotici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ß </a:t>
            </a: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lattamici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sono i maggiori responsabili (si ritrovano come contaminanti nella carne e nel latte vaccini ed in bevan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S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è responsabile per lo più di reazioni 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nafilattoidi (blocco della ciclossigena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Infrequent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e spesso sovrastimata in età pedia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Diagnosi difficil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nche in casi selezion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Se si verifica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per più farmaci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NON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si tratta probabilmente di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vera all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Le </a:t>
            </a: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reazioni cutane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osservate dopo assunzione di antibiotici sono spesso dovute all’</a:t>
            </a: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azione combinata del farmaco e dell’agente inf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5184720" cy="122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ANAFILASSI  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DA VELENO  DI  IMENOTT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7777080" cy="316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Colpisce prevalentemente i mas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namnesi negativa per malattie allerg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SPT per inalanti ed alimenti neg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Necessaria (ma non sempre rilevabile anamnesticamente) la precedente puntura sensibilizz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lcuni autori attribuiscono la sensibilizzazione al miele e alla pappa re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vespa"/>
          <p:cNvPicPr/>
          <p:nvPr/>
        </p:nvPicPr>
        <p:blipFill>
          <a:blip r:embed="rId1"/>
          <a:stretch/>
        </p:blipFill>
        <p:spPr>
          <a:xfrm>
            <a:off x="6732720" y="620640"/>
            <a:ext cx="17524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2472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TRATTAMENTO DELLO SHOCK ANAFILATTICO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Adrenalina: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1ml = 1mg (1:1000 fiale) i.m. o s.c.  (0,01-0,02 ml/kg/dos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1" i="1" lang="it-IT" sz="2000" spc="-1" strike="noStrike">
                <a:solidFill>
                  <a:srgbClr val="3333cc"/>
                </a:solidFill>
                <a:latin typeface="Comic Sans MS"/>
              </a:rPr>
              <a:t>N.B. </a:t>
            </a:r>
            <a:r>
              <a:rPr b="0" i="1" lang="it-IT" sz="2000" spc="-1" strike="noStrike">
                <a:solidFill>
                  <a:srgbClr val="3333cc"/>
                </a:solidFill>
                <a:latin typeface="Comic Sans MS"/>
              </a:rPr>
              <a:t>È possibile diluire 1 ml di adrenalina in 9 ml di soluzione fisiologica: 1 cc. di sol. diluita ogni 10 kg. di peso (0,1 mg./10 Kg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1" lang="it-IT" sz="2000" spc="-1" strike="noStrike">
                <a:solidFill>
                  <a:srgbClr val="3333cc"/>
                </a:solidFill>
                <a:latin typeface="Comic Sans MS"/>
              </a:rPr>
              <a:t>Fastjekt Junior 0,165 mg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(fino a 20 kg di peso), </a:t>
            </a:r>
            <a:r>
              <a:rPr b="1" lang="it-IT" sz="2000" spc="-1" strike="noStrike">
                <a:solidFill>
                  <a:srgbClr val="3333cc"/>
                </a:solidFill>
                <a:latin typeface="Comic Sans MS"/>
              </a:rPr>
              <a:t>Fastjekt 0,33 mg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(&gt; 20 kg di pe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se non migliora adrenalina EV 0,75-1,5 mcg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Clorfenamina: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0,20 - 0,35 mg/kg e.v. o i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Idrocortisone: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 15 - 20 mg/kg  e.v. o i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68360" y="515772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424720" cy="3960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Mantenimento della pervietà delle vie  aeree (se edema della glottide cricotomi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Può essere utile la nebulizzazione di adrenalina 0,1 - 0,3 ml/k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Ossigenoterap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Incannulazione venosa per ripristino della volemia (20 ml/kg di soluzione fisiologica in infusione rapid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24000" y="404640"/>
            <a:ext cx="842472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TRATTAMENTO DELLO SHOCK ANAFILATTICO</a:t>
            </a:r>
            <a:r>
              <a:rPr b="1" lang="it-IT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ff0000"/>
                </a:solidFill>
                <a:latin typeface="Comic Sans MS"/>
              </a:rPr>
              <a:t>FASTJEKT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fastject4"/>
          <p:cNvPicPr/>
          <p:nvPr/>
        </p:nvPicPr>
        <p:blipFill>
          <a:blip r:embed="rId1"/>
          <a:srcRect l="14224" t="2306" r="19447" b="2277"/>
          <a:stretch/>
        </p:blipFill>
        <p:spPr>
          <a:xfrm>
            <a:off x="1187280" y="1700280"/>
            <a:ext cx="855720" cy="3527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proionta_15-1"/>
          <p:cNvPicPr/>
          <p:nvPr/>
        </p:nvPicPr>
        <p:blipFill>
          <a:blip r:embed="rId2"/>
          <a:stretch/>
        </p:blipFill>
        <p:spPr>
          <a:xfrm>
            <a:off x="3059280" y="2637000"/>
            <a:ext cx="518472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64360" cy="57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SHOCK ANAFILATTICO: DEFINI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39640" y="1197000"/>
            <a:ext cx="8207640" cy="37515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Reazione sistemica grave con possibile esito fatale senza un trattamento tempestivo ed urg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È  causata dall’esposizione ad allergeni diversi  in soggetti precedentemente sensibilizzati alla stessa sosta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È dovuta al rilascio di mediatori da parte di mastociti tissutali e basofili circolanti (immunoreazione di tipo IgE media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9640" y="5229360"/>
            <a:ext cx="8209080" cy="11912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REAZIONI ANAFILATTOID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manifestazioni cliniche simili allo shock direttamente provocate dall’agente scatenante, non IgE medi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fastjekt3"/>
          <p:cNvPicPr/>
          <p:nvPr/>
        </p:nvPicPr>
        <p:blipFill>
          <a:blip r:embed="rId1"/>
          <a:stretch/>
        </p:blipFill>
        <p:spPr>
          <a:xfrm>
            <a:off x="2540160" y="3990960"/>
            <a:ext cx="101520" cy="95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468360" y="476280"/>
            <a:ext cx="82072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ff0000"/>
                </a:solidFill>
                <a:latin typeface="Comic Sans MS"/>
              </a:rPr>
              <a:t>FASTJEKT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539640" y="1700280"/>
            <a:ext cx="4319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l primo segno di reazione allergica, senza aspettare i sintomi gravi, anche attraverso i vestiti, applicare l’apposito autoiniettore sulla parte laterale della coscia tenendo ferma la siringa per 10 secondi dopo la fuoriuscita dell’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3" descr="fastjekt2"/>
          <p:cNvPicPr/>
          <p:nvPr/>
        </p:nvPicPr>
        <p:blipFill>
          <a:blip r:embed="rId2"/>
          <a:srcRect l="2606" t="8836" r="6924" b="11514"/>
          <a:stretch/>
        </p:blipFill>
        <p:spPr>
          <a:xfrm>
            <a:off x="395280" y="5229360"/>
            <a:ext cx="4176720" cy="1231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7" descr="fastjekt3"/>
          <p:cNvPicPr/>
          <p:nvPr/>
        </p:nvPicPr>
        <p:blipFill>
          <a:blip r:embed="rId3"/>
          <a:stretch/>
        </p:blipFill>
        <p:spPr>
          <a:xfrm>
            <a:off x="5219640" y="1989000"/>
            <a:ext cx="3395880" cy="3597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8" descr="fastjekt trainer"/>
          <p:cNvPicPr/>
          <p:nvPr/>
        </p:nvPicPr>
        <p:blipFill>
          <a:blip r:embed="rId4"/>
          <a:stretch/>
        </p:blipFill>
        <p:spPr>
          <a:xfrm>
            <a:off x="5435640" y="5661000"/>
            <a:ext cx="338436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468360" y="1700280"/>
          <a:ext cx="8351640" cy="4519440"/>
        </p:xfrm>
        <a:graphic>
          <a:graphicData uri="http://schemas.openxmlformats.org/drawingml/2006/table">
            <a:tbl>
              <a:tblPr/>
              <a:tblGrid>
                <a:gridCol w="2158920"/>
                <a:gridCol w="1657440"/>
                <a:gridCol w="1439640"/>
                <a:gridCol w="3095640"/>
              </a:tblGrid>
              <a:tr h="113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ASTJEKT             JUN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65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 C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A 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. AMB. - NO LUC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ASTJE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R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3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 C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A 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. AMB. - NO LUC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RENAL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FL/0,5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FI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FL/0,5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 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A 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I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. NO &gt; 15 °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DRENAL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 FL/1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FI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FL/1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 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A 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. NO &gt; 15 °C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136"/>
          <p:cNvSpPr/>
          <p:nvPr/>
        </p:nvSpPr>
        <p:spPr>
          <a:xfrm>
            <a:off x="468360" y="476280"/>
            <a:ext cx="8351640" cy="58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DRENALI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68360" y="2133720"/>
          <a:ext cx="8280360" cy="2065320"/>
        </p:xfrm>
        <a:graphic>
          <a:graphicData uri="http://schemas.openxmlformats.org/drawingml/2006/table">
            <a:tbl>
              <a:tblPr/>
              <a:tblGrid>
                <a:gridCol w="2070000"/>
                <a:gridCol w="1817640"/>
                <a:gridCol w="1081080"/>
                <a:gridCol w="3311640"/>
              </a:tblGrid>
              <a:tr h="929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LORFENAMINA  MALEA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RIME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FI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l/10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 C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A  60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. AMBI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24000" y="1557360"/>
          <a:ext cx="8569080" cy="4773600"/>
        </p:xfrm>
        <a:graphic>
          <a:graphicData uri="http://schemas.openxmlformats.org/drawingml/2006/table">
            <a:tbl>
              <a:tblPr/>
              <a:tblGrid>
                <a:gridCol w="2447640"/>
                <a:gridCol w="1306800"/>
                <a:gridCol w="1320480"/>
                <a:gridCol w="765360"/>
                <a:gridCol w="1360440"/>
                <a:gridCol w="1368360"/>
              </a:tblGrid>
              <a:tr h="479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RT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M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LEBOCORT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MG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,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APIC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LUCORT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129"/>
          <p:cNvSpPr/>
          <p:nvPr/>
        </p:nvSpPr>
        <p:spPr>
          <a:xfrm>
            <a:off x="395280" y="333360"/>
            <a:ext cx="849780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DROCORTISONE 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EMISUCCINATO SO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44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CID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95280" y="907920"/>
            <a:ext cx="8424720" cy="10159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30 CASI OGNI 100.000 ABITANTI X AN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NAFILASSI LETALE: 0,002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95280" y="5877000"/>
            <a:ext cx="8424720" cy="459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INCIDENZA IN AUMENTO NEGLI ULTIMI 4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95280" y="2205000"/>
            <a:ext cx="8424720" cy="33858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FARMACI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: 1/2.700 ospedalizz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MEZZI di CONTRASTO RADIOLOGICI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: letali  1 su 50.000 infusi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LATICE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: nel 1993  1.100 casi di anafilassi - 15 morti in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PUNTURE D’INSETTO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: anafilassi in 0,5-5% della popolazione (40-100 mort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ANAFILASSI DA SFORZO CIBO-DIPENDENTE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:  13/76229 (0.017%) studenti Giappon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58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NAFILASSI - 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FATTORI DI RISC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424720" cy="5256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Età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: negli 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dulti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è più frequente rispetto ai bamb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Sesso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: nelle </a:t>
            </a:r>
            <a:r>
              <a:rPr b="1" lang="it-IT" sz="2400" spc="-1" strike="noStrike" u="sng">
                <a:solidFill>
                  <a:srgbClr val="0000ff"/>
                </a:solidFill>
                <a:uFillTx/>
                <a:latin typeface="Comic Sans MS"/>
              </a:rPr>
              <a:t>femmine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è più frequente l’anafilassi per ASA, latice, miorilassanti. Nei </a:t>
            </a:r>
            <a:r>
              <a:rPr b="1" lang="it-IT" sz="2400" spc="-1" strike="noStrike" u="sng">
                <a:solidFill>
                  <a:srgbClr val="0000ff"/>
                </a:solidFill>
                <a:uFillTx/>
                <a:latin typeface="Comic Sans MS"/>
              </a:rPr>
              <a:t>maschi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è più frequente l’anafilassi da veleno di  imenott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Atopia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importante</a:t>
            </a: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nell’anafilassi da cibo e da esercizio fisico (E.I.A.),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irrilevant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in quella da insulina, ASA, veleno di imenott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Modalità di somministrazione di farmaci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: la via orale dà reazioni gravi con minore frequenza, gli intervalli delle somministrazioni possono predisporre alle reazi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Mastocitosi e orticaria pigmentosa: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predispongono all’anafilassi, soprattutto da puntura di inset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NAFILASSI</a:t>
            </a:r>
            <a:br>
              <a:rPr sz="3200"/>
            </a:b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CLASSIFICAZIONE  PATOGENETICA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993080" cy="30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Anafilassi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Reazioni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IgE 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li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Farm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Veleno di ins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FDEIAn (Food Dependent Exercise  Induced Anaphylaxis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NAFILASSI</a:t>
            </a:r>
            <a:br>
              <a:rPr sz="3200"/>
            </a:b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CLASSIFICAZIONE  PATOGENETICA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482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Reazioni ANAFILATTO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1) Rilascio diretto di mediatori da mastociti e basof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Farmaci - Esercizio -  Fattori fisici (freddo, sole)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2) Alterazioni del metabolismo dell’acido ialuro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Aspirina e F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3) Aggregati immu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Gammaglobuline - IgG antiIgA – Destrano e album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4) Citotossici (reazioni a trasfusioni a elementi cellular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5)  Attivazione del complemento non mediata da antigene-anticor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Mezzo di contrasto radiologico – Membrane della diali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6) Attivazione del sistema delle Kallicre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Membrane dialisi – mezzo di contrasto radiolo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052000" y="6237360"/>
            <a:ext cx="46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A. Vierucci. Allergologia Pediatrica.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36" descr=""/>
          <p:cNvPicPr/>
          <p:nvPr/>
        </p:nvPicPr>
        <p:blipFill>
          <a:blip r:embed="rId1"/>
          <a:srcRect l="4725" t="15357" r="5722" b="15307"/>
          <a:stretch/>
        </p:blipFill>
        <p:spPr>
          <a:xfrm>
            <a:off x="252360" y="1558800"/>
            <a:ext cx="8710560" cy="5056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66" name="Text Box 338"/>
          <p:cNvSpPr/>
          <p:nvPr/>
        </p:nvSpPr>
        <p:spPr>
          <a:xfrm>
            <a:off x="324000" y="333360"/>
            <a:ext cx="856908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PATOGENESI  DELLO SHOCK ANAFILAT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68360" y="476280"/>
            <a:ext cx="828036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ALTERAZIONI ANATOMO-PATOLOG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68360" y="1197000"/>
            <a:ext cx="8280360" cy="35762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La morte per shock anafilattico è dovuta generalmen-te a ostruzione respiratoria e/o collasso cardiovasco-l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Ostruzione delle vie aeree: </a:t>
            </a:r>
            <a:r>
              <a:rPr b="1" lang="it-IT" sz="2400" spc="-1" strike="noStrike" u="sng">
                <a:solidFill>
                  <a:srgbClr val="0000ff"/>
                </a:solidFill>
                <a:uFillTx/>
                <a:latin typeface="Comic Sans MS"/>
              </a:rPr>
              <a:t>edema delle alte vie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 (laringe, trachea, epiglottide, ipofaringe) nel 60% dei morti per anafilassi è dovuto ad accumulo di trasudato nella sottomucosa. Ostruzione bronchiale con iperinflazione polmonare dovuta a spasmo, edema sottomucoso e ipersecrezione bronchi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68360" y="4941720"/>
            <a:ext cx="8280360" cy="11912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In caso di morte per collasso cardiovascolare si può trovare un danno miocardico o una dilatazione del ventricolo des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9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NAFILASSI -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INTOMAT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374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268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0000"/>
                </a:solidFill>
                <a:latin typeface="Comic Sans MS"/>
              </a:rPr>
              <a:t>S. Cutanei</a:t>
            </a: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1" lang="it-IT" sz="2200" spc="-1" strike="noStrike">
                <a:solidFill>
                  <a:srgbClr val="0000ff"/>
                </a:solidFill>
                <a:latin typeface="Comic Sans MS"/>
              </a:rPr>
              <a:t> orticaria, angioed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8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8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0000"/>
                </a:solidFill>
                <a:latin typeface="Comic Sans MS"/>
              </a:rPr>
              <a:t>S. Respiratori</a:t>
            </a: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1" lang="it-IT" sz="2200" spc="-1" strike="noStrike">
                <a:solidFill>
                  <a:srgbClr val="0000ff"/>
                </a:solidFill>
                <a:latin typeface="Comic Sans MS"/>
              </a:rPr>
              <a:t> dispnea, stridore laringe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8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8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0000"/>
                </a:solidFill>
                <a:latin typeface="Comic Sans MS"/>
              </a:rPr>
              <a:t>S. Gastrointestinali:</a:t>
            </a:r>
            <a:r>
              <a:rPr b="1" lang="it-IT" sz="2200" spc="-1" strike="noStrike">
                <a:solidFill>
                  <a:srgbClr val="0000ff"/>
                </a:solidFill>
                <a:latin typeface="Comic Sans MS"/>
              </a:rPr>
              <a:t> nausea, vomito, crampi, tenesmo, diarrea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8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8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0000"/>
                </a:solidFill>
                <a:latin typeface="Comic Sans MS"/>
              </a:rPr>
              <a:t>S. Cardiovascolari:</a:t>
            </a:r>
            <a:r>
              <a:rPr b="1" lang="it-IT" sz="2200" spc="-1" strike="noStrike">
                <a:solidFill>
                  <a:srgbClr val="0000ff"/>
                </a:solidFill>
                <a:latin typeface="Comic Sans MS"/>
              </a:rPr>
              <a:t> ipotensione, collasso, tachicard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8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8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0000"/>
                </a:solidFill>
                <a:latin typeface="Comic Sans MS"/>
              </a:rPr>
              <a:t>S. Neurologici:</a:t>
            </a:r>
            <a:r>
              <a:rPr b="1" lang="it-IT" sz="2200" spc="-1" strike="noStrike">
                <a:solidFill>
                  <a:srgbClr val="0000ff"/>
                </a:solidFill>
                <a:latin typeface="Comic Sans MS"/>
              </a:rPr>
              <a:t> cefalea, convulsion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8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09:56:28Z</dcterms:created>
  <dc:creator>zappala daniela</dc:creator>
  <dc:description/>
  <dc:language>en-US</dc:language>
  <cp:lastModifiedBy>Ilaria Pezone</cp:lastModifiedBy>
  <dcterms:modified xsi:type="dcterms:W3CDTF">2023-02-08T16:02:09Z</dcterms:modified>
  <cp:revision>138</cp:revision>
  <dc:subject/>
  <dc:title>Istituto di Clinica Pediatrica Università di Roma “La Sapienza”</dc:title>
</cp:coreProperties>
</file>