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475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509c"/>
                </a:solidFill>
                <a:latin typeface="Tahoma"/>
              </a:rPr>
              <a:t>Click to move the slide</a:t>
            </a:r>
            <a:endParaRPr b="0" lang="en-US" sz="2800" spc="-1" strike="noStrike">
              <a:solidFill>
                <a:srgbClr val="27509c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714560"/>
            <a:ext cx="50292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942984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942984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DF02-DA09-430B-BC2F-6650E300DBC2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942984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DB00-6FB7-43B7-BAE2-38F2BE2862C7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714560"/>
            <a:ext cx="50292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eppi di MRSA non sono più patogeni dei ceppi MSSA, ma disponiamo di minori opportunità terapeutiche. Bradley (1991) ha osservato un tasso di colonizzazione del 25% e di infezione del 3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rtatori di MRSA hanno un rischio di 4-6 volte di sviluppare infezion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attori di rischio di MRSA sono: il tempo di ospedalizzazione, l’età avanzata, precedenti procedure inva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’uso di mupirocina nasale è indicato solo in caso di eventi epidemi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8"/>
          <p:cNvSpPr/>
          <p:nvPr/>
        </p:nvSpPr>
        <p:spPr>
          <a:xfrm>
            <a:off x="3886200" y="942984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C419-121F-41C9-B271-D497C51545F3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69840" y="75096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883800" y="4792320"/>
            <a:ext cx="508644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8"/>
          <p:cNvSpPr/>
          <p:nvPr/>
        </p:nvSpPr>
        <p:spPr>
          <a:xfrm>
            <a:off x="3886200" y="942984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3ABC-6F32-44E2-AE95-E9EBEA7B835B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69840" y="75096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883800" y="4792320"/>
            <a:ext cx="508644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8"/>
          <p:cNvSpPr/>
          <p:nvPr/>
        </p:nvSpPr>
        <p:spPr>
          <a:xfrm>
            <a:off x="3886200" y="942984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A805-BD67-4723-B66B-E8B305ACB708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69840" y="75096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83800" y="4792320"/>
            <a:ext cx="508644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8"/>
          <p:cNvSpPr/>
          <p:nvPr/>
        </p:nvSpPr>
        <p:spPr>
          <a:xfrm>
            <a:off x="3886200" y="942984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C774-F8F2-42AF-B868-B9E1033B0AEB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69840" y="75096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883800" y="4792320"/>
            <a:ext cx="508644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8"/>
          <p:cNvSpPr/>
          <p:nvPr/>
        </p:nvSpPr>
        <p:spPr>
          <a:xfrm>
            <a:off x="3886200" y="942984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3E86-B639-43DE-8D8D-665CDEF74926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69840" y="75096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883800" y="4792320"/>
            <a:ext cx="508644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8"/>
          <p:cNvSpPr/>
          <p:nvPr/>
        </p:nvSpPr>
        <p:spPr>
          <a:xfrm>
            <a:off x="3886200" y="942984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1C51-E42D-4931-8EA3-F9BD842356DF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69840" y="75096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883800" y="4792320"/>
            <a:ext cx="508644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8"/>
          <p:cNvSpPr/>
          <p:nvPr/>
        </p:nvSpPr>
        <p:spPr>
          <a:xfrm>
            <a:off x="3886200" y="942984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C6F2-6242-4DE4-BF62-ED1C77E8C19C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69840" y="75096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883800" y="4792320"/>
            <a:ext cx="5086440" cy="44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666360"/>
            <a:ext cx="86104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7509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88760" y="1731600"/>
            <a:ext cx="812628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88760" y="3811320"/>
            <a:ext cx="812628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666360"/>
            <a:ext cx="86104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7509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88760" y="1731600"/>
            <a:ext cx="396540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2880" y="1731600"/>
            <a:ext cx="396540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88760" y="3811320"/>
            <a:ext cx="396540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2880" y="3811320"/>
            <a:ext cx="396540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666360"/>
            <a:ext cx="86104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7509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88760" y="1731600"/>
            <a:ext cx="261648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6280" y="1731600"/>
            <a:ext cx="261648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84160" y="1731600"/>
            <a:ext cx="261648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88760" y="3811320"/>
            <a:ext cx="261648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6280" y="3811320"/>
            <a:ext cx="261648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84160" y="3811320"/>
            <a:ext cx="261648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666360"/>
            <a:ext cx="86104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7509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88760" y="1731600"/>
            <a:ext cx="812628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666360"/>
            <a:ext cx="86104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7509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88760" y="1731600"/>
            <a:ext cx="812628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666360"/>
            <a:ext cx="86104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7509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88760" y="1731600"/>
            <a:ext cx="396540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52880" y="1731600"/>
            <a:ext cx="396540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666360"/>
            <a:ext cx="86104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7509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666360"/>
            <a:ext cx="8610480" cy="178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666360"/>
            <a:ext cx="86104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7509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88760" y="1731600"/>
            <a:ext cx="396540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2880" y="1731600"/>
            <a:ext cx="396540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88760" y="3811320"/>
            <a:ext cx="396540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666360"/>
            <a:ext cx="86104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7509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88760" y="1731600"/>
            <a:ext cx="396540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52880" y="1731600"/>
            <a:ext cx="396540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2880" y="3811320"/>
            <a:ext cx="396540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666360"/>
            <a:ext cx="86104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7509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88760" y="1731600"/>
            <a:ext cx="396540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2880" y="1731600"/>
            <a:ext cx="396540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88760" y="3811320"/>
            <a:ext cx="8126280" cy="18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f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fascia_titolo"/>
          <p:cNvPicPr/>
          <p:nvPr/>
        </p:nvPicPr>
        <p:blipFill>
          <a:blip r:embed="rId2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666360"/>
            <a:ext cx="86104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509c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27509c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88760" y="1731600"/>
            <a:ext cx="812628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9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50520" indent="-309600">
              <a:lnSpc>
                <a:spcPct val="90000"/>
              </a:lnSpc>
              <a:spcBef>
                <a:spcPts val="1950"/>
              </a:spcBef>
              <a:buClr>
                <a:srgbClr val="ff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930240" indent="-278280">
              <a:lnSpc>
                <a:spcPct val="90000"/>
              </a:lnSpc>
              <a:spcBef>
                <a:spcPts val="19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3" marL="1208520" indent="-265320">
              <a:lnSpc>
                <a:spcPct val="90000"/>
              </a:lnSpc>
              <a:spcBef>
                <a:spcPts val="19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4" marL="2112120" indent="-226080">
              <a:lnSpc>
                <a:spcPct val="90000"/>
              </a:lnSpc>
              <a:spcBef>
                <a:spcPts val="195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5" marL="2112120" indent="-226080">
              <a:lnSpc>
                <a:spcPct val="90000"/>
              </a:lnSpc>
              <a:spcBef>
                <a:spcPts val="195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6" marL="2112120" indent="-226080">
              <a:lnSpc>
                <a:spcPct val="90000"/>
              </a:lnSpc>
              <a:spcBef>
                <a:spcPts val="195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Line 7"/>
          <p:cNvSpPr/>
          <p:nvPr/>
        </p:nvSpPr>
        <p:spPr>
          <a:xfrm>
            <a:off x="304920" y="6273720"/>
            <a:ext cx="8610480" cy="0"/>
          </a:xfrm>
          <a:prstGeom prst="line">
            <a:avLst/>
          </a:prstGeom>
          <a:ln w="19080">
            <a:solidFill>
              <a:srgbClr val="00a9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Freeform 8"/>
          <p:cNvSpPr/>
          <p:nvPr/>
        </p:nvSpPr>
        <p:spPr>
          <a:xfrm>
            <a:off x="304920" y="6208560"/>
            <a:ext cx="5213160" cy="57240"/>
          </a:xfrm>
          <a:prstGeom prst="pie">
            <a:avLst/>
          </a:prstGeom>
          <a:solidFill>
            <a:srgbClr val="00a9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8504280" y="6461280"/>
            <a:ext cx="639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6E94-AAB0-44AD-919F-D78DEB45749B}" type="slidenum">
              <a:rPr b="0" lang="it-IT" sz="2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27509c"/>
                </a:solidFill>
                <a:latin typeface="Tahoma"/>
              </a:rPr>
              <a:t>LE INFEZIONI CORRELATE ALL’ASSISTENZA DEL NUOVO MILLENNIO</a:t>
            </a:r>
            <a:endParaRPr b="0" lang="en-US" sz="3200" spc="-1" strike="noStrike">
              <a:solidFill>
                <a:srgbClr val="27509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987640" y="4986000"/>
            <a:ext cx="601992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24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3398040" y="1219320"/>
            <a:ext cx="4883760" cy="4636800"/>
            <a:chOff x="3398040" y="1219320"/>
            <a:chExt cx="4883760" cy="4636800"/>
          </a:xfrm>
        </p:grpSpPr>
        <p:sp>
          <p:nvSpPr>
            <p:cNvPr id="94" name="AutoShape 3"/>
            <p:cNvSpPr/>
            <p:nvPr/>
          </p:nvSpPr>
          <p:spPr>
            <a:xfrm flipH="1" rot="15144600">
              <a:off x="4038840" y="1546920"/>
              <a:ext cx="3602160" cy="398124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63360">
              <a:solidFill>
                <a:srgbClr val="a4bc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Oval 4"/>
            <p:cNvSpPr/>
            <p:nvPr/>
          </p:nvSpPr>
          <p:spPr>
            <a:xfrm>
              <a:off x="5729400" y="5000760"/>
              <a:ext cx="1218960" cy="7617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Oval 5"/>
            <p:cNvSpPr/>
            <p:nvPr/>
          </p:nvSpPr>
          <p:spPr>
            <a:xfrm rot="1282200">
              <a:off x="6126120" y="5207040"/>
              <a:ext cx="622440" cy="320760"/>
            </a:xfrm>
            <a:prstGeom prst="ellipse">
              <a:avLst/>
            </a:prstGeom>
            <a:noFill/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6"/>
            <p:cNvSpPr/>
            <p:nvPr/>
          </p:nvSpPr>
          <p:spPr>
            <a:xfrm>
              <a:off x="5146560" y="33148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Text Box 7"/>
            <p:cNvSpPr/>
            <p:nvPr/>
          </p:nvSpPr>
          <p:spPr>
            <a:xfrm rot="1119600">
              <a:off x="6197760" y="5076360"/>
              <a:ext cx="5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82e7"/>
                  </a:solidFill>
                  <a:latin typeface="Arial"/>
                </a:rPr>
                <a:t>XX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" name="Group 9"/>
          <p:cNvGrpSpPr/>
          <p:nvPr/>
        </p:nvGrpSpPr>
        <p:grpSpPr>
          <a:xfrm>
            <a:off x="5583240" y="1606680"/>
            <a:ext cx="1218960" cy="761760"/>
            <a:chOff x="5583240" y="1606680"/>
            <a:chExt cx="1218960" cy="761760"/>
          </a:xfrm>
        </p:grpSpPr>
        <p:sp>
          <p:nvSpPr>
            <p:cNvPr id="100" name="Oval 10"/>
            <p:cNvSpPr/>
            <p:nvPr/>
          </p:nvSpPr>
          <p:spPr>
            <a:xfrm>
              <a:off x="5583240" y="1606680"/>
              <a:ext cx="1218960" cy="7617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11"/>
            <p:cNvSpPr/>
            <p:nvPr/>
          </p:nvSpPr>
          <p:spPr>
            <a:xfrm rot="1282200">
              <a:off x="5984640" y="1834920"/>
              <a:ext cx="622440" cy="320400"/>
            </a:xfrm>
            <a:prstGeom prst="ellipse">
              <a:avLst/>
            </a:prstGeom>
            <a:noFill/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2" name="Group 12"/>
          <p:cNvGrpSpPr/>
          <p:nvPr/>
        </p:nvGrpSpPr>
        <p:grpSpPr>
          <a:xfrm>
            <a:off x="1452240" y="2486880"/>
            <a:ext cx="2903760" cy="2467800"/>
            <a:chOff x="1452240" y="2486880"/>
            <a:chExt cx="2903760" cy="2467800"/>
          </a:xfrm>
        </p:grpSpPr>
        <p:sp>
          <p:nvSpPr>
            <p:cNvPr id="103" name="AutoShape 13"/>
            <p:cNvSpPr/>
            <p:nvPr/>
          </p:nvSpPr>
          <p:spPr>
            <a:xfrm flipH="1" rot="15903000">
              <a:off x="2621520" y="2829600"/>
              <a:ext cx="1585800" cy="1752480"/>
            </a:xfrm>
            <a:prstGeom prst="pie">
              <a:avLst/>
            </a:prstGeom>
            <a:solidFill>
              <a:srgbClr val="ffffff">
                <a:alpha val="50000"/>
              </a:srgbClr>
            </a:solidFill>
            <a:ln w="38160">
              <a:solidFill>
                <a:srgbClr val="a4bc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04" name="Group 14"/>
            <p:cNvGrpSpPr/>
            <p:nvPr/>
          </p:nvGrpSpPr>
          <p:grpSpPr>
            <a:xfrm>
              <a:off x="1500120" y="3178800"/>
              <a:ext cx="968400" cy="993960"/>
              <a:chOff x="1500120" y="3178800"/>
              <a:chExt cx="968400" cy="993960"/>
            </a:xfrm>
          </p:grpSpPr>
          <p:sp>
            <p:nvSpPr>
              <p:cNvPr id="105" name="Oval 15"/>
              <p:cNvSpPr/>
              <p:nvPr/>
            </p:nvSpPr>
            <p:spPr>
              <a:xfrm rot="19184400">
                <a:off x="1690560" y="3273120"/>
                <a:ext cx="587520" cy="804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Oval 16"/>
              <p:cNvSpPr/>
              <p:nvPr/>
            </p:nvSpPr>
            <p:spPr>
              <a:xfrm>
                <a:off x="1893960" y="3621240"/>
                <a:ext cx="320400" cy="296640"/>
              </a:xfrm>
              <a:prstGeom prst="ellipse">
                <a:avLst/>
              </a:prstGeom>
              <a:noFill/>
              <a:ln w="572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Oval 17"/>
              <p:cNvSpPr/>
              <p:nvPr/>
            </p:nvSpPr>
            <p:spPr>
              <a:xfrm rot="19629600">
                <a:off x="1765080" y="3389040"/>
                <a:ext cx="247680" cy="228600"/>
              </a:xfrm>
              <a:prstGeom prst="ellipse">
                <a:avLst/>
              </a:prstGeom>
              <a:noFill/>
              <a:ln w="5724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8" name="Group 18"/>
            <p:cNvGrpSpPr/>
            <p:nvPr/>
          </p:nvGrpSpPr>
          <p:grpSpPr>
            <a:xfrm>
              <a:off x="1452240" y="2486880"/>
              <a:ext cx="1376640" cy="823680"/>
              <a:chOff x="1452240" y="2486880"/>
              <a:chExt cx="1376640" cy="823680"/>
            </a:xfrm>
          </p:grpSpPr>
          <p:sp>
            <p:nvSpPr>
              <p:cNvPr id="109" name="AutoShape 19"/>
              <p:cNvSpPr/>
              <p:nvPr/>
            </p:nvSpPr>
            <p:spPr>
              <a:xfrm rot="20629800">
                <a:off x="1493640" y="2657520"/>
                <a:ext cx="1293480" cy="482400"/>
              </a:xfrm>
              <a:prstGeom prst="roundRect">
                <a:avLst>
                  <a:gd name="adj" fmla="val 16667"/>
                </a:avLst>
              </a:prstGeom>
              <a:solidFill>
                <a:srgbClr val="ffc1cb"/>
              </a:solidFill>
              <a:ln w="9360">
                <a:solidFill>
                  <a:srgbClr val="c654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Oval 20"/>
              <p:cNvSpPr/>
              <p:nvPr/>
            </p:nvSpPr>
            <p:spPr>
              <a:xfrm>
                <a:off x="2103120" y="2657520"/>
                <a:ext cx="564840" cy="277560"/>
              </a:xfrm>
              <a:prstGeom prst="ellipse">
                <a:avLst/>
              </a:prstGeom>
              <a:noFill/>
              <a:ln w="572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Rectangle 21"/>
              <p:cNvSpPr/>
              <p:nvPr/>
            </p:nvSpPr>
            <p:spPr>
              <a:xfrm>
                <a:off x="2170080" y="2885760"/>
                <a:ext cx="271080" cy="75960"/>
              </a:xfrm>
              <a:prstGeom prst="rect">
                <a:avLst/>
              </a:prstGeom>
              <a:solidFill>
                <a:srgbClr val="cc0066"/>
              </a:solidFill>
              <a:ln w="93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2" name="Oval 22"/>
            <p:cNvSpPr/>
            <p:nvPr/>
          </p:nvSpPr>
          <p:spPr>
            <a:xfrm rot="1282200">
              <a:off x="3227400" y="4411800"/>
              <a:ext cx="442800" cy="342720"/>
            </a:xfrm>
            <a:prstGeom prst="ellipse">
              <a:avLst/>
            </a:prstGeom>
            <a:noFill/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Rectangle 23"/>
            <p:cNvSpPr/>
            <p:nvPr/>
          </p:nvSpPr>
          <p:spPr>
            <a:xfrm>
              <a:off x="3586320" y="4819680"/>
              <a:ext cx="479160" cy="13500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4" name="Group 24"/>
          <p:cNvGrpSpPr/>
          <p:nvPr/>
        </p:nvGrpSpPr>
        <p:grpSpPr>
          <a:xfrm>
            <a:off x="6615000" y="1998720"/>
            <a:ext cx="2224080" cy="1168200"/>
            <a:chOff x="6615000" y="1998720"/>
            <a:chExt cx="2224080" cy="1168200"/>
          </a:xfrm>
        </p:grpSpPr>
        <p:sp>
          <p:nvSpPr>
            <p:cNvPr id="115" name="Rectangle 25"/>
            <p:cNvSpPr/>
            <p:nvPr/>
          </p:nvSpPr>
          <p:spPr>
            <a:xfrm>
              <a:off x="6615000" y="2489040"/>
              <a:ext cx="2224080" cy="677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atteri sensibili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Freeform 26"/>
            <p:cNvSpPr/>
            <p:nvPr/>
          </p:nvSpPr>
          <p:spPr>
            <a:xfrm>
              <a:off x="6994440" y="1998720"/>
              <a:ext cx="760320" cy="407880"/>
            </a:xfrm>
            <a:prstGeom prst="pie">
              <a:avLst/>
            </a:prstGeom>
            <a:noFill/>
            <a:ln w="76320">
              <a:solidFill>
                <a:srgbClr val="27509c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7" name="Group 27"/>
          <p:cNvGrpSpPr/>
          <p:nvPr/>
        </p:nvGrpSpPr>
        <p:grpSpPr>
          <a:xfrm>
            <a:off x="6615000" y="4008600"/>
            <a:ext cx="2224080" cy="1182600"/>
            <a:chOff x="6615000" y="4008600"/>
            <a:chExt cx="2224080" cy="1182600"/>
          </a:xfrm>
        </p:grpSpPr>
        <p:sp>
          <p:nvSpPr>
            <p:cNvPr id="118" name="Rectangle 28"/>
            <p:cNvSpPr/>
            <p:nvPr/>
          </p:nvSpPr>
          <p:spPr>
            <a:xfrm>
              <a:off x="6615000" y="4008600"/>
              <a:ext cx="2224080" cy="677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atteri di nuova resistenz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Freeform 29"/>
            <p:cNvSpPr/>
            <p:nvPr/>
          </p:nvSpPr>
          <p:spPr>
            <a:xfrm flipV="1">
              <a:off x="6994440" y="4782960"/>
              <a:ext cx="760320" cy="408240"/>
            </a:xfrm>
            <a:prstGeom prst="pie">
              <a:avLst/>
            </a:prstGeom>
            <a:noFill/>
            <a:ln w="76320">
              <a:solidFill>
                <a:srgbClr val="27509c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0" name="Group 30"/>
          <p:cNvGrpSpPr/>
          <p:nvPr/>
        </p:nvGrpSpPr>
        <p:grpSpPr>
          <a:xfrm>
            <a:off x="316080" y="1687680"/>
            <a:ext cx="2224080" cy="1620720"/>
            <a:chOff x="316080" y="1687680"/>
            <a:chExt cx="2224080" cy="1620720"/>
          </a:xfrm>
        </p:grpSpPr>
        <p:sp>
          <p:nvSpPr>
            <p:cNvPr id="121" name="Rectangle 31"/>
            <p:cNvSpPr/>
            <p:nvPr/>
          </p:nvSpPr>
          <p:spPr>
            <a:xfrm>
              <a:off x="316080" y="1687680"/>
              <a:ext cx="2224080" cy="649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63360">
              <a:solidFill>
                <a:srgbClr val="7c9f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atteri resistenti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Freeform 32"/>
            <p:cNvSpPr/>
            <p:nvPr/>
          </p:nvSpPr>
          <p:spPr>
            <a:xfrm rot="10800000">
              <a:off x="875880" y="2463840"/>
              <a:ext cx="506520" cy="844560"/>
            </a:xfrm>
            <a:prstGeom prst="pie">
              <a:avLst/>
            </a:prstGeom>
            <a:noFill/>
            <a:ln w="76320">
              <a:solidFill>
                <a:srgbClr val="27509c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3" name="Group 33"/>
          <p:cNvGrpSpPr/>
          <p:nvPr/>
        </p:nvGrpSpPr>
        <p:grpSpPr>
          <a:xfrm>
            <a:off x="304920" y="4334040"/>
            <a:ext cx="2779560" cy="1280880"/>
            <a:chOff x="304920" y="4334040"/>
            <a:chExt cx="2779560" cy="1280880"/>
          </a:xfrm>
        </p:grpSpPr>
        <p:sp>
          <p:nvSpPr>
            <p:cNvPr id="124" name="Rectangle 34"/>
            <p:cNvSpPr/>
            <p:nvPr/>
          </p:nvSpPr>
          <p:spPr>
            <a:xfrm>
              <a:off x="304920" y="4965840"/>
              <a:ext cx="2779560" cy="649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63360">
              <a:solidFill>
                <a:srgbClr val="7c9f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rasferimento genico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ella resistenz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Freeform 35"/>
            <p:cNvSpPr/>
            <p:nvPr/>
          </p:nvSpPr>
          <p:spPr>
            <a:xfrm flipV="1" rot="10800000">
              <a:off x="1767960" y="4334040"/>
              <a:ext cx="830520" cy="534960"/>
            </a:xfrm>
            <a:prstGeom prst="pie">
              <a:avLst/>
            </a:prstGeom>
            <a:noFill/>
            <a:ln w="76320">
              <a:solidFill>
                <a:srgbClr val="27509c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" name="Group 36"/>
          <p:cNvGrpSpPr/>
          <p:nvPr/>
        </p:nvGrpSpPr>
        <p:grpSpPr>
          <a:xfrm>
            <a:off x="5907600" y="5371560"/>
            <a:ext cx="614160" cy="269280"/>
            <a:chOff x="5907600" y="5371560"/>
            <a:chExt cx="614160" cy="269280"/>
          </a:xfrm>
        </p:grpSpPr>
        <p:sp>
          <p:nvSpPr>
            <p:cNvPr id="127" name="Oval 37"/>
            <p:cNvSpPr/>
            <p:nvPr/>
          </p:nvSpPr>
          <p:spPr>
            <a:xfrm rot="1282200">
              <a:off x="5934240" y="5409720"/>
              <a:ext cx="247320" cy="192240"/>
            </a:xfrm>
            <a:prstGeom prst="ellipse">
              <a:avLst/>
            </a:prstGeom>
            <a:noFill/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Rectangle 38"/>
            <p:cNvSpPr/>
            <p:nvPr/>
          </p:nvSpPr>
          <p:spPr>
            <a:xfrm rot="1033200">
              <a:off x="6244920" y="5473440"/>
              <a:ext cx="271440" cy="75960"/>
            </a:xfrm>
            <a:prstGeom prst="rect">
              <a:avLst/>
            </a:prstGeom>
            <a:solidFill>
              <a:srgbClr val="cc0066"/>
            </a:solidFill>
            <a:ln w="93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469440"/>
            <a:ext cx="61452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7509c"/>
                </a:solidFill>
                <a:latin typeface="Tahoma"/>
              </a:rPr>
              <a:t>La diffusione delle resistenze</a:t>
            </a:r>
            <a:endParaRPr b="0" lang="en-US" sz="2800" spc="-1" strike="noStrike">
              <a:solidFill>
                <a:srgbClr val="27509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5232240" y="1897200"/>
            <a:ext cx="3368520" cy="4136760"/>
            <a:chOff x="5232240" y="1897200"/>
            <a:chExt cx="3368520" cy="4136760"/>
          </a:xfrm>
        </p:grpSpPr>
        <p:sp>
          <p:nvSpPr>
            <p:cNvPr id="131" name="Oval 3"/>
            <p:cNvSpPr/>
            <p:nvPr/>
          </p:nvSpPr>
          <p:spPr>
            <a:xfrm>
              <a:off x="5246640" y="1897200"/>
              <a:ext cx="3348000" cy="413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f7b75"/>
                </a:gs>
              </a:gsLst>
              <a:path path="rect">
                <a:fillToRect l="50000" t="50000" r="50000" b="50000"/>
              </a:path>
            </a:gradFill>
            <a:ln w="63360">
              <a:solidFill>
                <a:srgbClr val="c45e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Oval 4"/>
            <p:cNvSpPr/>
            <p:nvPr/>
          </p:nvSpPr>
          <p:spPr>
            <a:xfrm rot="2429400">
              <a:off x="7278480" y="3243240"/>
              <a:ext cx="1220760" cy="7621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Oval 5"/>
            <p:cNvSpPr/>
            <p:nvPr/>
          </p:nvSpPr>
          <p:spPr>
            <a:xfrm rot="3711600">
              <a:off x="7661880" y="3515040"/>
              <a:ext cx="623880" cy="320400"/>
            </a:xfrm>
            <a:prstGeom prst="ellipse">
              <a:avLst/>
            </a:prstGeom>
            <a:noFill/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Oval 6"/>
            <p:cNvSpPr/>
            <p:nvPr/>
          </p:nvSpPr>
          <p:spPr>
            <a:xfrm rot="3711600">
              <a:off x="7489440" y="3454200"/>
              <a:ext cx="249480" cy="192240"/>
            </a:xfrm>
            <a:prstGeom prst="ellipse">
              <a:avLst/>
            </a:prstGeom>
            <a:noFill/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Text Box 7"/>
            <p:cNvSpPr/>
            <p:nvPr/>
          </p:nvSpPr>
          <p:spPr>
            <a:xfrm rot="2429400">
              <a:off x="7963920" y="33555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82e7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Text Box 8"/>
            <p:cNvSpPr/>
            <p:nvPr/>
          </p:nvSpPr>
          <p:spPr>
            <a:xfrm rot="2429400">
              <a:off x="8037000" y="34668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82e7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Rectangle 9"/>
            <p:cNvSpPr/>
            <p:nvPr/>
          </p:nvSpPr>
          <p:spPr>
            <a:xfrm rot="3462600">
              <a:off x="7731000" y="3729600"/>
              <a:ext cx="271800" cy="7596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Oval 10"/>
            <p:cNvSpPr/>
            <p:nvPr/>
          </p:nvSpPr>
          <p:spPr>
            <a:xfrm rot="6781200">
              <a:off x="5126400" y="3583440"/>
              <a:ext cx="1371600" cy="677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Oval 11"/>
            <p:cNvSpPr/>
            <p:nvPr/>
          </p:nvSpPr>
          <p:spPr>
            <a:xfrm rot="8063400">
              <a:off x="5428800" y="3885840"/>
              <a:ext cx="700200" cy="284040"/>
            </a:xfrm>
            <a:prstGeom prst="ellipse">
              <a:avLst/>
            </a:prstGeom>
            <a:noFill/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Oval 12"/>
            <p:cNvSpPr/>
            <p:nvPr/>
          </p:nvSpPr>
          <p:spPr>
            <a:xfrm rot="8063400">
              <a:off x="5683680" y="3529800"/>
              <a:ext cx="279360" cy="169920"/>
            </a:xfrm>
            <a:prstGeom prst="ellipse">
              <a:avLst/>
            </a:prstGeom>
            <a:noFill/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Text Box 13"/>
            <p:cNvSpPr/>
            <p:nvPr/>
          </p:nvSpPr>
          <p:spPr>
            <a:xfrm rot="6781200">
              <a:off x="5746320" y="3882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82e7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Text Box 14"/>
            <p:cNvSpPr/>
            <p:nvPr/>
          </p:nvSpPr>
          <p:spPr>
            <a:xfrm rot="6781200">
              <a:off x="5624280" y="3997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82e7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Rectangle 15"/>
            <p:cNvSpPr/>
            <p:nvPr/>
          </p:nvSpPr>
          <p:spPr>
            <a:xfrm rot="7815000">
              <a:off x="5493600" y="3933000"/>
              <a:ext cx="304560" cy="6840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Oval 16"/>
            <p:cNvSpPr/>
            <p:nvPr/>
          </p:nvSpPr>
          <p:spPr>
            <a:xfrm rot="75000">
              <a:off x="6856200" y="4793760"/>
              <a:ext cx="1218960" cy="7621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Oval 17"/>
            <p:cNvSpPr/>
            <p:nvPr/>
          </p:nvSpPr>
          <p:spPr>
            <a:xfrm rot="1357200">
              <a:off x="7254720" y="5003640"/>
              <a:ext cx="622440" cy="320760"/>
            </a:xfrm>
            <a:prstGeom prst="ellipse">
              <a:avLst/>
            </a:prstGeom>
            <a:noFill/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Oval 18"/>
            <p:cNvSpPr/>
            <p:nvPr/>
          </p:nvSpPr>
          <p:spPr>
            <a:xfrm rot="1357200">
              <a:off x="7013160" y="5196960"/>
              <a:ext cx="247680" cy="192240"/>
            </a:xfrm>
            <a:prstGeom prst="ellipse">
              <a:avLst/>
            </a:prstGeom>
            <a:noFill/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Text Box 19"/>
            <p:cNvSpPr/>
            <p:nvPr/>
          </p:nvSpPr>
          <p:spPr>
            <a:xfrm rot="75000">
              <a:off x="7402320" y="47937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82e7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Text Box 20"/>
            <p:cNvSpPr/>
            <p:nvPr/>
          </p:nvSpPr>
          <p:spPr>
            <a:xfrm rot="75000">
              <a:off x="7535520" y="4871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82e7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Rectangle 21"/>
            <p:cNvSpPr/>
            <p:nvPr/>
          </p:nvSpPr>
          <p:spPr>
            <a:xfrm rot="1108800">
              <a:off x="7395840" y="5281560"/>
              <a:ext cx="271440" cy="763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Oval 22"/>
            <p:cNvSpPr/>
            <p:nvPr/>
          </p:nvSpPr>
          <p:spPr>
            <a:xfrm rot="14631600">
              <a:off x="5956920" y="3080520"/>
              <a:ext cx="1371600" cy="677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Oval 23"/>
            <p:cNvSpPr/>
            <p:nvPr/>
          </p:nvSpPr>
          <p:spPr>
            <a:xfrm rot="15914400">
              <a:off x="6230520" y="3180600"/>
              <a:ext cx="700200" cy="284040"/>
            </a:xfrm>
            <a:prstGeom prst="ellipse">
              <a:avLst/>
            </a:prstGeom>
            <a:noFill/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Oval 24"/>
            <p:cNvSpPr/>
            <p:nvPr/>
          </p:nvSpPr>
          <p:spPr>
            <a:xfrm rot="15914400">
              <a:off x="6726600" y="3543840"/>
              <a:ext cx="279360" cy="169920"/>
            </a:xfrm>
            <a:prstGeom prst="ellipse">
              <a:avLst/>
            </a:prstGeom>
            <a:noFill/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Text Box 25"/>
            <p:cNvSpPr/>
            <p:nvPr/>
          </p:nvSpPr>
          <p:spPr>
            <a:xfrm rot="14631600">
              <a:off x="6298920" y="3223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82e7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Text Box 26"/>
            <p:cNvSpPr/>
            <p:nvPr/>
          </p:nvSpPr>
          <p:spPr>
            <a:xfrm rot="14631600">
              <a:off x="6276960" y="3051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82e7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Rectangle 27"/>
            <p:cNvSpPr/>
            <p:nvPr/>
          </p:nvSpPr>
          <p:spPr>
            <a:xfrm rot="15665400">
              <a:off x="6576120" y="3270600"/>
              <a:ext cx="304560" cy="6804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Oval 28"/>
            <p:cNvSpPr/>
            <p:nvPr/>
          </p:nvSpPr>
          <p:spPr>
            <a:xfrm rot="21091800">
              <a:off x="5661000" y="4460760"/>
              <a:ext cx="1219320" cy="7621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Oval 29"/>
            <p:cNvSpPr/>
            <p:nvPr/>
          </p:nvSpPr>
          <p:spPr>
            <a:xfrm rot="774000">
              <a:off x="6054480" y="4650840"/>
              <a:ext cx="622080" cy="320760"/>
            </a:xfrm>
            <a:prstGeom prst="ellipse">
              <a:avLst/>
            </a:prstGeom>
            <a:noFill/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Oval 30"/>
            <p:cNvSpPr/>
            <p:nvPr/>
          </p:nvSpPr>
          <p:spPr>
            <a:xfrm rot="774000">
              <a:off x="5911560" y="4903920"/>
              <a:ext cx="247680" cy="191880"/>
            </a:xfrm>
            <a:prstGeom prst="ellipse">
              <a:avLst/>
            </a:prstGeom>
            <a:noFill/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Text Box 31"/>
            <p:cNvSpPr/>
            <p:nvPr/>
          </p:nvSpPr>
          <p:spPr>
            <a:xfrm rot="21091800">
              <a:off x="6167520" y="44492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82e7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Text Box 32"/>
            <p:cNvSpPr/>
            <p:nvPr/>
          </p:nvSpPr>
          <p:spPr>
            <a:xfrm rot="21091800">
              <a:off x="6315120" y="45082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82e7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Rectangle 33"/>
            <p:cNvSpPr/>
            <p:nvPr/>
          </p:nvSpPr>
          <p:spPr>
            <a:xfrm rot="525600">
              <a:off x="6218280" y="4933800"/>
              <a:ext cx="271440" cy="763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Oval 34"/>
            <p:cNvSpPr/>
            <p:nvPr/>
          </p:nvSpPr>
          <p:spPr>
            <a:xfrm rot="20837400">
              <a:off x="6877080" y="4062240"/>
              <a:ext cx="934920" cy="5860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Oval 35"/>
            <p:cNvSpPr/>
            <p:nvPr/>
          </p:nvSpPr>
          <p:spPr>
            <a:xfrm rot="519600">
              <a:off x="7183080" y="4219560"/>
              <a:ext cx="477720" cy="246240"/>
            </a:xfrm>
            <a:prstGeom prst="ellipse">
              <a:avLst/>
            </a:prstGeom>
            <a:noFill/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4" name="Group 37"/>
          <p:cNvGrpSpPr/>
          <p:nvPr/>
        </p:nvGrpSpPr>
        <p:grpSpPr>
          <a:xfrm>
            <a:off x="520560" y="1897200"/>
            <a:ext cx="3348000" cy="4136760"/>
            <a:chOff x="520560" y="1897200"/>
            <a:chExt cx="3348000" cy="4136760"/>
          </a:xfrm>
        </p:grpSpPr>
        <p:sp>
          <p:nvSpPr>
            <p:cNvPr id="165" name="Oval 38"/>
            <p:cNvSpPr/>
            <p:nvPr/>
          </p:nvSpPr>
          <p:spPr>
            <a:xfrm>
              <a:off x="520560" y="1897200"/>
              <a:ext cx="3348000" cy="4136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f7b75"/>
                </a:gs>
              </a:gsLst>
              <a:path path="rect">
                <a:fillToRect l="50000" t="50000" r="50000" b="50000"/>
              </a:path>
            </a:gradFill>
            <a:ln w="63360">
              <a:solidFill>
                <a:srgbClr val="c45e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Oval 39"/>
            <p:cNvSpPr/>
            <p:nvPr/>
          </p:nvSpPr>
          <p:spPr>
            <a:xfrm rot="1032000">
              <a:off x="799920" y="3111120"/>
              <a:ext cx="933120" cy="5857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Oval 40"/>
            <p:cNvSpPr/>
            <p:nvPr/>
          </p:nvSpPr>
          <p:spPr>
            <a:xfrm rot="2314200">
              <a:off x="1101240" y="3309480"/>
              <a:ext cx="476280" cy="246240"/>
            </a:xfrm>
            <a:prstGeom prst="ellipse">
              <a:avLst/>
            </a:prstGeom>
            <a:noFill/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Oval 41"/>
            <p:cNvSpPr/>
            <p:nvPr/>
          </p:nvSpPr>
          <p:spPr>
            <a:xfrm rot="20837400">
              <a:off x="2763720" y="4073040"/>
              <a:ext cx="933480" cy="5860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Oval 42"/>
            <p:cNvSpPr/>
            <p:nvPr/>
          </p:nvSpPr>
          <p:spPr>
            <a:xfrm rot="519600">
              <a:off x="3070080" y="4230360"/>
              <a:ext cx="476280" cy="245880"/>
            </a:xfrm>
            <a:prstGeom prst="ellipse">
              <a:avLst/>
            </a:prstGeom>
            <a:noFill/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" name="Oval 43"/>
            <p:cNvSpPr/>
            <p:nvPr/>
          </p:nvSpPr>
          <p:spPr>
            <a:xfrm rot="861000">
              <a:off x="1206000" y="5016240"/>
              <a:ext cx="933480" cy="5857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Oval 44"/>
            <p:cNvSpPr/>
            <p:nvPr/>
          </p:nvSpPr>
          <p:spPr>
            <a:xfrm rot="2143800">
              <a:off x="1509480" y="5211360"/>
              <a:ext cx="476280" cy="246240"/>
            </a:xfrm>
            <a:prstGeom prst="ellipse">
              <a:avLst/>
            </a:prstGeom>
            <a:noFill/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" name="Oval 45"/>
            <p:cNvSpPr/>
            <p:nvPr/>
          </p:nvSpPr>
          <p:spPr>
            <a:xfrm rot="19921200">
              <a:off x="731880" y="4101840"/>
              <a:ext cx="933480" cy="5857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" name="Oval 46"/>
            <p:cNvSpPr/>
            <p:nvPr/>
          </p:nvSpPr>
          <p:spPr>
            <a:xfrm rot="21203400">
              <a:off x="1033200" y="4239720"/>
              <a:ext cx="476280" cy="246240"/>
            </a:xfrm>
            <a:prstGeom prst="ellipse">
              <a:avLst/>
            </a:prstGeom>
            <a:noFill/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" name="Oval 47"/>
            <p:cNvSpPr/>
            <p:nvPr/>
          </p:nvSpPr>
          <p:spPr>
            <a:xfrm rot="20837400">
              <a:off x="1790640" y="4468320"/>
              <a:ext cx="933480" cy="5860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Oval 48"/>
            <p:cNvSpPr/>
            <p:nvPr/>
          </p:nvSpPr>
          <p:spPr>
            <a:xfrm rot="519600">
              <a:off x="2097000" y="4625640"/>
              <a:ext cx="476280" cy="245880"/>
            </a:xfrm>
            <a:prstGeom prst="ellipse">
              <a:avLst/>
            </a:prstGeom>
            <a:noFill/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Oval 49"/>
            <p:cNvSpPr/>
            <p:nvPr/>
          </p:nvSpPr>
          <p:spPr>
            <a:xfrm rot="1654200">
              <a:off x="1753920" y="3368520"/>
              <a:ext cx="1218960" cy="7621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Oval 50"/>
            <p:cNvSpPr/>
            <p:nvPr/>
          </p:nvSpPr>
          <p:spPr>
            <a:xfrm rot="2936400">
              <a:off x="2145960" y="3622320"/>
              <a:ext cx="622440" cy="320760"/>
            </a:xfrm>
            <a:prstGeom prst="ellipse">
              <a:avLst/>
            </a:prstGeom>
            <a:noFill/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Oval 51"/>
            <p:cNvSpPr/>
            <p:nvPr/>
          </p:nvSpPr>
          <p:spPr>
            <a:xfrm rot="2936400">
              <a:off x="1926000" y="3645360"/>
              <a:ext cx="247680" cy="192240"/>
            </a:xfrm>
            <a:prstGeom prst="ellipse">
              <a:avLst/>
            </a:prstGeom>
            <a:noFill/>
            <a:ln w="57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Text Box 52"/>
            <p:cNvSpPr/>
            <p:nvPr/>
          </p:nvSpPr>
          <p:spPr>
            <a:xfrm rot="1654200">
              <a:off x="2391840" y="34351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82e7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Text Box 53"/>
            <p:cNvSpPr/>
            <p:nvPr/>
          </p:nvSpPr>
          <p:spPr>
            <a:xfrm rot="1654200">
              <a:off x="2477520" y="35557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7782e7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Rectangle 54"/>
            <p:cNvSpPr/>
            <p:nvPr/>
          </p:nvSpPr>
          <p:spPr>
            <a:xfrm rot="2688000">
              <a:off x="2234880" y="3873600"/>
              <a:ext cx="271440" cy="7596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Oval 55"/>
            <p:cNvSpPr/>
            <p:nvPr/>
          </p:nvSpPr>
          <p:spPr>
            <a:xfrm rot="20837400">
              <a:off x="2400480" y="5001840"/>
              <a:ext cx="933120" cy="5857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Oval 56"/>
            <p:cNvSpPr/>
            <p:nvPr/>
          </p:nvSpPr>
          <p:spPr>
            <a:xfrm rot="519600">
              <a:off x="2706840" y="5159160"/>
              <a:ext cx="475920" cy="245880"/>
            </a:xfrm>
            <a:prstGeom prst="ellipse">
              <a:avLst/>
            </a:prstGeom>
            <a:noFill/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" name="Rectangle 57"/>
          <p:cNvSpPr/>
          <p:nvPr/>
        </p:nvSpPr>
        <p:spPr>
          <a:xfrm>
            <a:off x="304920" y="1569960"/>
            <a:ext cx="2527200" cy="77328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ri Ceppi Resistenti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58"/>
          <p:cNvSpPr/>
          <p:nvPr/>
        </p:nvSpPr>
        <p:spPr>
          <a:xfrm>
            <a:off x="6311880" y="1569960"/>
            <a:ext cx="2527200" cy="77328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 ceppi Resistenti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domina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" name="Group 59"/>
          <p:cNvGrpSpPr/>
          <p:nvPr/>
        </p:nvGrpSpPr>
        <p:grpSpPr>
          <a:xfrm>
            <a:off x="3208320" y="2208240"/>
            <a:ext cx="2275560" cy="852480"/>
            <a:chOff x="3208320" y="2208240"/>
            <a:chExt cx="2275560" cy="852480"/>
          </a:xfrm>
        </p:grpSpPr>
        <p:sp>
          <p:nvSpPr>
            <p:cNvPr id="187" name="Line 60"/>
            <p:cNvSpPr/>
            <p:nvPr/>
          </p:nvSpPr>
          <p:spPr>
            <a:xfrm>
              <a:off x="3208320" y="3060720"/>
              <a:ext cx="1968480" cy="0"/>
            </a:xfrm>
            <a:prstGeom prst="line">
              <a:avLst/>
            </a:prstGeom>
            <a:ln w="127080">
              <a:solidFill>
                <a:srgbClr val="27509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Rectangle 61"/>
            <p:cNvSpPr/>
            <p:nvPr/>
          </p:nvSpPr>
          <p:spPr>
            <a:xfrm>
              <a:off x="3730320" y="2208240"/>
              <a:ext cx="17535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sposizione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all’antibiotic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666360"/>
            <a:ext cx="86104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7509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1760" y="310680"/>
            <a:ext cx="861084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7509c"/>
                </a:solidFill>
                <a:latin typeface="Tahoma"/>
              </a:rPr>
              <a:t>…</a:t>
            </a:r>
            <a:r>
              <a:rPr b="0" lang="it-IT" sz="2800" spc="-1" strike="noStrike">
                <a:solidFill>
                  <a:srgbClr val="27509c"/>
                </a:solidFill>
                <a:latin typeface="Tahoma"/>
              </a:rPr>
              <a:t>. I BATTERI PIU’ PERICOLOSI</a:t>
            </a:r>
            <a:endParaRPr b="0" lang="en-US" sz="2800" spc="-1" strike="noStrike">
              <a:solidFill>
                <a:srgbClr val="27509c"/>
              </a:solidFill>
              <a:latin typeface="Tahom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22120" y="1692360"/>
            <a:ext cx="8358480" cy="34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GRAM POSITIV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. Staphylococcus aureus resistente alla meticillin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. Clostridium difficil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. Bacillo di koc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GRAM NEGATIV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. Klebsiella pneumonia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. Escherichia col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.Enterobatteriacee carbapenemi resistent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Ovale 3"/>
          <p:cNvSpPr/>
          <p:nvPr/>
        </p:nvSpPr>
        <p:spPr>
          <a:xfrm>
            <a:off x="0" y="925560"/>
            <a:ext cx="4886280" cy="27972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Ovale 4"/>
          <p:cNvSpPr/>
          <p:nvPr/>
        </p:nvSpPr>
        <p:spPr>
          <a:xfrm>
            <a:off x="4626000" y="2511360"/>
            <a:ext cx="4227480" cy="3357720"/>
          </a:xfrm>
          <a:prstGeom prst="ellipse">
            <a:avLst/>
          </a:prstGeom>
          <a:noFill/>
          <a:ln w="63360">
            <a:solidFill>
              <a:srgbClr val="2e2e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Immagine 6" descr=""/>
          <p:cNvPicPr/>
          <p:nvPr/>
        </p:nvPicPr>
        <p:blipFill>
          <a:blip r:embed="rId1"/>
          <a:stretch/>
        </p:blipFill>
        <p:spPr>
          <a:xfrm>
            <a:off x="1038240" y="4189320"/>
            <a:ext cx="2317680" cy="1909800"/>
          </a:xfrm>
          <a:prstGeom prst="rect">
            <a:avLst/>
          </a:prstGeom>
          <a:ln w="0">
            <a:noFill/>
          </a:ln>
        </p:spPr>
      </p:pic>
      <p:sp>
        <p:nvSpPr>
          <p:cNvPr id="195" name="CasellaDiTesto 8"/>
          <p:cNvSpPr/>
          <p:nvPr/>
        </p:nvSpPr>
        <p:spPr>
          <a:xfrm>
            <a:off x="5686560" y="1014480"/>
            <a:ext cx="3471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1" lang="it-IT" sz="2000" spc="-1" strike="noStrike">
                <a:solidFill>
                  <a:srgbClr val="ff0000"/>
                </a:solidFill>
                <a:latin typeface="Tahoma"/>
              </a:rPr>
              <a:t>CON AUMENTO DELLA RESISTENZA AMBIENTA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Immagine 9" descr=""/>
          <p:cNvPicPr/>
          <p:nvPr/>
        </p:nvPicPr>
        <p:blipFill>
          <a:blip r:embed="rId2"/>
          <a:stretch/>
        </p:blipFill>
        <p:spPr>
          <a:xfrm>
            <a:off x="5014800" y="853920"/>
            <a:ext cx="7336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666360"/>
            <a:ext cx="86104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7509c"/>
                </a:solidFill>
                <a:latin typeface="Tahoma"/>
              </a:rPr>
              <a:t>…</a:t>
            </a:r>
            <a:r>
              <a:rPr b="0" lang="it-IT" sz="2800" spc="-1" strike="noStrike">
                <a:solidFill>
                  <a:srgbClr val="27509c"/>
                </a:solidFill>
                <a:latin typeface="Tahoma"/>
              </a:rPr>
              <a:t>. A livello EUROPEO</a:t>
            </a:r>
            <a:endParaRPr b="0" lang="en-US" sz="2800" spc="-1" strike="noStrike">
              <a:solidFill>
                <a:srgbClr val="27509c"/>
              </a:solidFill>
              <a:latin typeface="Tahom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442520"/>
            <a:ext cx="8610480" cy="30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9000"/>
          </a:bodyPr>
          <a:p>
            <a:pPr algn="ctr"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Tahoma"/>
              </a:rPr>
              <a:t>OGNI ANNO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Tahom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it-IT" sz="2600" spc="-1" strike="noStrike">
                <a:solidFill>
                  <a:srgbClr val="ff0000"/>
                </a:solidFill>
                <a:latin typeface="Tahoma"/>
              </a:rPr>
              <a:t>400.000 INFEZIONI CON 25.000 DECESS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b050"/>
                </a:solidFill>
                <a:latin typeface="Tahoma"/>
              </a:rPr>
              <a:t>IMPATTO ECONOMICO PARI A 1,5 MILIARDI DI EU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Freccia in giù 3"/>
          <p:cNvSpPr/>
          <p:nvPr/>
        </p:nvSpPr>
        <p:spPr>
          <a:xfrm>
            <a:off x="4437000" y="1909800"/>
            <a:ext cx="345960" cy="677880"/>
          </a:xfrm>
          <a:prstGeom prst="downArrow">
            <a:avLst>
              <a:gd name="adj1" fmla="val 50000"/>
              <a:gd name="adj2" fmla="val 50019"/>
            </a:avLst>
          </a:prstGeom>
          <a:solidFill>
            <a:srgbClr val="2e2ebc"/>
          </a:solidFill>
          <a:ln w="63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Ovale 4"/>
          <p:cNvSpPr/>
          <p:nvPr/>
        </p:nvSpPr>
        <p:spPr>
          <a:xfrm>
            <a:off x="747720" y="3367080"/>
            <a:ext cx="7724880" cy="2127240"/>
          </a:xfrm>
          <a:prstGeom prst="ellipse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1" name="Immagine 5" descr=""/>
          <p:cNvPicPr/>
          <p:nvPr/>
        </p:nvPicPr>
        <p:blipFill>
          <a:blip r:embed="rId1"/>
          <a:stretch/>
        </p:blipFill>
        <p:spPr>
          <a:xfrm>
            <a:off x="6195960" y="306360"/>
            <a:ext cx="227664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666360"/>
            <a:ext cx="86104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7509c"/>
                </a:solidFill>
                <a:latin typeface="Tahoma"/>
              </a:rPr>
              <a:t>…</a:t>
            </a:r>
            <a:r>
              <a:rPr b="0" lang="it-IT" sz="2800" spc="-1" strike="noStrike">
                <a:solidFill>
                  <a:srgbClr val="27509c"/>
                </a:solidFill>
                <a:latin typeface="Tahoma"/>
              </a:rPr>
              <a:t>.IN ITALIA </a:t>
            </a:r>
            <a:endParaRPr b="0" lang="en-US" sz="2800" spc="-1" strike="noStrike">
              <a:solidFill>
                <a:srgbClr val="27509c"/>
              </a:solidFill>
              <a:latin typeface="Tahom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18760" y="2512440"/>
            <a:ext cx="8396280" cy="37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algn="just">
              <a:lnSpc>
                <a:spcPct val="2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b050"/>
                </a:solidFill>
                <a:latin typeface="Tahoma"/>
              </a:rPr>
              <a:t>L’ITALIA E’ UNO DEI MAGGIORI CONSUMATORI EUROPEI  DI ANTIBIOTICI CON GRECIA, SPAGNA E PORTOGALLO CON UN USO INAPPROPRIATO DI ANTIBIOTICI PARI CIRCA 1 SU 5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9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Immagine 3" descr=""/>
          <p:cNvPicPr/>
          <p:nvPr/>
        </p:nvPicPr>
        <p:blipFill>
          <a:blip r:embed="rId1"/>
          <a:stretch/>
        </p:blipFill>
        <p:spPr>
          <a:xfrm>
            <a:off x="3884760" y="1189080"/>
            <a:ext cx="1019160" cy="1361880"/>
          </a:xfrm>
          <a:prstGeom prst="rect">
            <a:avLst/>
          </a:prstGeom>
          <a:ln w="0">
            <a:noFill/>
          </a:ln>
        </p:spPr>
      </p:pic>
      <p:pic>
        <p:nvPicPr>
          <p:cNvPr id="205" name="Immagine 4" descr=""/>
          <p:cNvPicPr/>
          <p:nvPr/>
        </p:nvPicPr>
        <p:blipFill>
          <a:blip r:embed="rId2"/>
          <a:stretch/>
        </p:blipFill>
        <p:spPr>
          <a:xfrm>
            <a:off x="6824520" y="258840"/>
            <a:ext cx="209088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666360"/>
            <a:ext cx="86104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7509c"/>
                </a:solidFill>
                <a:latin typeface="Tahoma"/>
              </a:rPr>
              <a:t>... </a:t>
            </a:r>
            <a:r>
              <a:rPr b="1" lang="it-IT" sz="2800" spc="-1" strike="noStrike">
                <a:solidFill>
                  <a:srgbClr val="2e2ebc"/>
                </a:solidFill>
                <a:latin typeface="Tahoma"/>
              </a:rPr>
              <a:t>ESEMPI </a:t>
            </a:r>
            <a:r>
              <a:rPr b="1" lang="it-IT" sz="2800" spc="-1" strike="noStrike">
                <a:solidFill>
                  <a:srgbClr val="27509c"/>
                </a:solidFill>
                <a:latin typeface="Tahoma"/>
              </a:rPr>
              <a:t>IN ITALIA</a:t>
            </a:r>
            <a:endParaRPr b="0" lang="en-US" sz="2800" spc="-1" strike="noStrike">
              <a:solidFill>
                <a:srgbClr val="27509c"/>
              </a:solidFill>
              <a:latin typeface="Tahoma"/>
            </a:endParaRPr>
          </a:p>
        </p:txBody>
      </p:sp>
      <p:pic>
        <p:nvPicPr>
          <p:cNvPr id="207" name="Immagine 4" descr=""/>
          <p:cNvPicPr/>
          <p:nvPr/>
        </p:nvPicPr>
        <p:blipFill>
          <a:blip r:embed="rId1"/>
          <a:stretch/>
        </p:blipFill>
        <p:spPr>
          <a:xfrm>
            <a:off x="239760" y="1471680"/>
            <a:ext cx="4195800" cy="4332240"/>
          </a:xfrm>
          <a:prstGeom prst="rect">
            <a:avLst/>
          </a:prstGeom>
          <a:ln w="0">
            <a:noFill/>
          </a:ln>
        </p:spPr>
      </p:pic>
      <p:pic>
        <p:nvPicPr>
          <p:cNvPr id="208" name="Immagine 5" descr=""/>
          <p:cNvPicPr/>
          <p:nvPr/>
        </p:nvPicPr>
        <p:blipFill>
          <a:blip r:embed="rId2"/>
          <a:stretch/>
        </p:blipFill>
        <p:spPr>
          <a:xfrm>
            <a:off x="4557600" y="1471680"/>
            <a:ext cx="414972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52360" y="368280"/>
            <a:ext cx="8610480" cy="3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7509c"/>
                </a:solidFill>
                <a:latin typeface="Tahoma"/>
              </a:rPr>
              <a:t>Evoluzione della resistenza in </a:t>
            </a:r>
            <a:r>
              <a:rPr b="1" i="1" lang="en-US" sz="2600" spc="-1" strike="noStrike">
                <a:solidFill>
                  <a:srgbClr val="27509c"/>
                </a:solidFill>
                <a:latin typeface="Tahoma"/>
              </a:rPr>
              <a:t>S. aureus</a:t>
            </a:r>
            <a:endParaRPr b="0" lang="en-US" sz="2600" spc="-1" strike="noStrike">
              <a:solidFill>
                <a:srgbClr val="27509c"/>
              </a:solidFill>
              <a:latin typeface="Tahoma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503280" y="4430880"/>
            <a:ext cx="1932120" cy="11109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. aure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ncomcino-resist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Freeform 4"/>
          <p:cNvSpPr/>
          <p:nvPr/>
        </p:nvSpPr>
        <p:spPr>
          <a:xfrm>
            <a:off x="4222800" y="3827520"/>
            <a:ext cx="2460600" cy="579240"/>
          </a:xfrm>
          <a:prstGeom prst="pie">
            <a:avLst/>
          </a:prstGeom>
          <a:noFill/>
          <a:ln w="76320">
            <a:solidFill>
              <a:srgbClr val="27509c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2289960" y="2857680"/>
            <a:ext cx="8146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50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1193760" y="1738440"/>
            <a:ext cx="1260360" cy="388800"/>
          </a:xfrm>
          <a:prstGeom prst="rect">
            <a:avLst/>
          </a:prstGeom>
          <a:solidFill>
            <a:srgbClr val="2750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2286000"/>
                <a:tab algn="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Penicillin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776760" y="1620720"/>
            <a:ext cx="1520640" cy="546120"/>
          </a:xfrm>
          <a:prstGeom prst="rect">
            <a:avLst/>
          </a:prstGeom>
          <a:solidFill>
            <a:srgbClr val="2750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2286000"/>
                <a:tab algn="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Meticillina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(cefalosporine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7412040" y="3225960"/>
            <a:ext cx="1414440" cy="388800"/>
          </a:xfrm>
          <a:prstGeom prst="rect">
            <a:avLst/>
          </a:prstGeom>
          <a:solidFill>
            <a:srgbClr val="2750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2286000"/>
                <a:tab algn="r" pos="6972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Vancomicin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488880" y="2482920"/>
            <a:ext cx="1784520" cy="49680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S. aureu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3098880" y="2413080"/>
            <a:ext cx="1993680" cy="66816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S. aureu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nicillino-resisten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913360" y="2413080"/>
            <a:ext cx="2016360" cy="66672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S. aureu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ticillino-resisten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MRS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5017320" y="2857680"/>
            <a:ext cx="8146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70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5224680" y="3849840"/>
            <a:ext cx="7048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6944400" y="3825720"/>
            <a:ext cx="8146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0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5964120" y="4430880"/>
            <a:ext cx="2016360" cy="66672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terococchi Vancomicino-resistenti  (VR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3252960" y="4430880"/>
            <a:ext cx="1863720" cy="112392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S. aureu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ncomicino-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isten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medio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(VIS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2517840" y="4554360"/>
            <a:ext cx="7048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2273400" y="2730600"/>
            <a:ext cx="798480" cy="0"/>
          </a:xfrm>
          <a:prstGeom prst="line">
            <a:avLst/>
          </a:prstGeom>
          <a:ln w="76320">
            <a:solidFill>
              <a:srgbClr val="27509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9"/>
          <p:cNvSpPr/>
          <p:nvPr/>
        </p:nvSpPr>
        <p:spPr>
          <a:xfrm>
            <a:off x="5095800" y="2730600"/>
            <a:ext cx="809640" cy="0"/>
          </a:xfrm>
          <a:prstGeom prst="line">
            <a:avLst/>
          </a:prstGeom>
          <a:ln w="76320">
            <a:solidFill>
              <a:srgbClr val="27509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20"/>
          <p:cNvSpPr/>
          <p:nvPr/>
        </p:nvSpPr>
        <p:spPr>
          <a:xfrm flipH="1" rot="5400000">
            <a:off x="6983640" y="3538440"/>
            <a:ext cx="320400" cy="447840"/>
          </a:xfrm>
          <a:prstGeom prst="downArrow">
            <a:avLst>
              <a:gd name="adj1" fmla="val 70306"/>
              <a:gd name="adj2" fmla="val 31773"/>
            </a:avLst>
          </a:prstGeom>
          <a:solidFill>
            <a:srgbClr val="ffff99"/>
          </a:solidFill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21"/>
          <p:cNvSpPr/>
          <p:nvPr/>
        </p:nvSpPr>
        <p:spPr>
          <a:xfrm>
            <a:off x="6832440" y="3124080"/>
            <a:ext cx="0" cy="1282680"/>
          </a:xfrm>
          <a:prstGeom prst="line">
            <a:avLst/>
          </a:prstGeom>
          <a:ln w="76320">
            <a:solidFill>
              <a:srgbClr val="27509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Line 22"/>
          <p:cNvSpPr/>
          <p:nvPr/>
        </p:nvSpPr>
        <p:spPr>
          <a:xfrm flipH="1">
            <a:off x="2514240" y="5008680"/>
            <a:ext cx="749160" cy="0"/>
          </a:xfrm>
          <a:prstGeom prst="line">
            <a:avLst/>
          </a:prstGeom>
          <a:ln w="76320">
            <a:solidFill>
              <a:srgbClr val="27509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AutoShape 23"/>
          <p:cNvSpPr/>
          <p:nvPr/>
        </p:nvSpPr>
        <p:spPr>
          <a:xfrm flipH="1">
            <a:off x="5319000" y="2224080"/>
            <a:ext cx="320760" cy="396720"/>
          </a:xfrm>
          <a:prstGeom prst="downArrow">
            <a:avLst>
              <a:gd name="adj1" fmla="val 70306"/>
              <a:gd name="adj2" fmla="val 28115"/>
            </a:avLst>
          </a:prstGeom>
          <a:solidFill>
            <a:srgbClr val="ffff99"/>
          </a:solidFill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AutoShape 24"/>
          <p:cNvSpPr/>
          <p:nvPr/>
        </p:nvSpPr>
        <p:spPr>
          <a:xfrm flipH="1">
            <a:off x="2537640" y="2224080"/>
            <a:ext cx="320760" cy="396720"/>
          </a:xfrm>
          <a:prstGeom prst="downArrow">
            <a:avLst>
              <a:gd name="adj1" fmla="val 70306"/>
              <a:gd name="adj2" fmla="val 28115"/>
            </a:avLst>
          </a:prstGeom>
          <a:solidFill>
            <a:srgbClr val="ffff99"/>
          </a:solidFill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666360"/>
            <a:ext cx="86104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7509c"/>
                </a:solidFill>
                <a:latin typeface="Tahoma"/>
              </a:rPr>
              <a:t>…</a:t>
            </a:r>
            <a:r>
              <a:rPr b="0" lang="it-IT" sz="2800" spc="-1" strike="noStrike">
                <a:solidFill>
                  <a:srgbClr val="27509c"/>
                </a:solidFill>
                <a:latin typeface="Tahoma"/>
              </a:rPr>
              <a:t>.I PAZIENTI A MAGGIOR RISCHIO</a:t>
            </a:r>
            <a:endParaRPr b="0" lang="en-US" sz="2800" spc="-1" strike="noStrike">
              <a:solidFill>
                <a:srgbClr val="27509c"/>
              </a:solidFill>
              <a:latin typeface="Tahoma"/>
            </a:endParaRPr>
          </a:p>
        </p:txBody>
      </p:sp>
      <p:pic>
        <p:nvPicPr>
          <p:cNvPr id="233" name="Segnaposto contenuto 1" descr=""/>
          <p:cNvPicPr/>
          <p:nvPr/>
        </p:nvPicPr>
        <p:blipFill>
          <a:blip r:embed="rId1"/>
          <a:stretch/>
        </p:blipFill>
        <p:spPr>
          <a:xfrm>
            <a:off x="622440" y="173844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234" name="Immagine 2" descr=""/>
          <p:cNvPicPr/>
          <p:nvPr/>
        </p:nvPicPr>
        <p:blipFill>
          <a:blip r:embed="rId2"/>
          <a:stretch/>
        </p:blipFill>
        <p:spPr>
          <a:xfrm>
            <a:off x="1122480" y="3824280"/>
            <a:ext cx="884160" cy="1228680"/>
          </a:xfrm>
          <a:prstGeom prst="rect">
            <a:avLst/>
          </a:prstGeom>
          <a:ln w="0">
            <a:noFill/>
          </a:ln>
        </p:spPr>
      </p:pic>
      <p:pic>
        <p:nvPicPr>
          <p:cNvPr id="235" name="Immagine 3" descr=""/>
          <p:cNvPicPr/>
          <p:nvPr/>
        </p:nvPicPr>
        <p:blipFill>
          <a:blip r:embed="rId3"/>
          <a:stretch/>
        </p:blipFill>
        <p:spPr>
          <a:xfrm>
            <a:off x="4654440" y="2535120"/>
            <a:ext cx="1420920" cy="1116000"/>
          </a:xfrm>
          <a:prstGeom prst="rect">
            <a:avLst/>
          </a:prstGeom>
          <a:ln w="0">
            <a:noFill/>
          </a:ln>
        </p:spPr>
      </p:pic>
      <p:sp>
        <p:nvSpPr>
          <p:cNvPr id="236" name="CasellaDiTesto 4"/>
          <p:cNvSpPr/>
          <p:nvPr/>
        </p:nvSpPr>
        <p:spPr>
          <a:xfrm>
            <a:off x="2800440" y="2060640"/>
            <a:ext cx="293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PERSON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ANZIA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CasellaDiTesto 5"/>
          <p:cNvSpPr/>
          <p:nvPr/>
        </p:nvSpPr>
        <p:spPr>
          <a:xfrm>
            <a:off x="2647800" y="3998880"/>
            <a:ext cx="213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PERSONE CON PATOLOGIE ONCOLOGIC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CasellaDiTesto 6"/>
          <p:cNvSpPr/>
          <p:nvPr/>
        </p:nvSpPr>
        <p:spPr>
          <a:xfrm>
            <a:off x="6769080" y="2575080"/>
            <a:ext cx="1940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ERSONE CON PATOLOGIE CRONICHE E DEGENERATI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Freccia a destra 7"/>
          <p:cNvSpPr/>
          <p:nvPr/>
        </p:nvSpPr>
        <p:spPr>
          <a:xfrm>
            <a:off x="6249960" y="2830680"/>
            <a:ext cx="642960" cy="525240"/>
          </a:xfrm>
          <a:prstGeom prst="rightArrow">
            <a:avLst>
              <a:gd name="adj1" fmla="val 50000"/>
              <a:gd name="adj2" fmla="val 40781"/>
            </a:avLst>
          </a:prstGeom>
          <a:noFill/>
          <a:ln w="63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Freccia a destra 10"/>
          <p:cNvSpPr/>
          <p:nvPr/>
        </p:nvSpPr>
        <p:spPr>
          <a:xfrm>
            <a:off x="2157480" y="2205000"/>
            <a:ext cx="642960" cy="525600"/>
          </a:xfrm>
          <a:prstGeom prst="rightArrow">
            <a:avLst>
              <a:gd name="adj1" fmla="val 50000"/>
              <a:gd name="adj2" fmla="val 40753"/>
            </a:avLst>
          </a:prstGeom>
          <a:noFill/>
          <a:ln w="63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Freccia a destra 11"/>
          <p:cNvSpPr/>
          <p:nvPr/>
        </p:nvSpPr>
        <p:spPr>
          <a:xfrm>
            <a:off x="2006640" y="4176720"/>
            <a:ext cx="641160" cy="525600"/>
          </a:xfrm>
          <a:prstGeom prst="rightArrow">
            <a:avLst>
              <a:gd name="adj1" fmla="val 50000"/>
              <a:gd name="adj2" fmla="val 40639"/>
            </a:avLst>
          </a:prstGeom>
          <a:noFill/>
          <a:ln w="63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9760" y="8697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27509c"/>
                </a:solidFill>
                <a:latin typeface="Tahoma"/>
              </a:rPr>
              <a:t>Terapia empirica: come scegliere l’antibiotico nel paziente soprattutto critico ?</a:t>
            </a:r>
            <a:endParaRPr b="0" lang="en-US" sz="2200" spc="-1" strike="noStrike">
              <a:solidFill>
                <a:srgbClr val="27509c"/>
              </a:solidFill>
              <a:latin typeface="Tahoma"/>
            </a:endParaRPr>
          </a:p>
        </p:txBody>
      </p:sp>
      <p:sp>
        <p:nvSpPr>
          <p:cNvPr id="243" name="Text Box 51"/>
          <p:cNvSpPr/>
          <p:nvPr/>
        </p:nvSpPr>
        <p:spPr>
          <a:xfrm>
            <a:off x="339840" y="1968480"/>
            <a:ext cx="3105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- garantire la TERAPIA MIGLI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53"/>
          <p:cNvSpPr/>
          <p:nvPr/>
        </p:nvSpPr>
        <p:spPr>
          <a:xfrm>
            <a:off x="339840" y="3468600"/>
            <a:ext cx="4735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MALATTIA di BA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ETA’ del PAZIEN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FATTORI di RISCHIO SPECIFIC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GRADING di GRAVITA’ CLINIC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 Box 54"/>
          <p:cNvSpPr/>
          <p:nvPr/>
        </p:nvSpPr>
        <p:spPr>
          <a:xfrm>
            <a:off x="6380280" y="3848040"/>
            <a:ext cx="2400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DATI della SORVEGLIANZ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delle RESISTENZ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Text Box 55"/>
          <p:cNvSpPr/>
          <p:nvPr/>
        </p:nvSpPr>
        <p:spPr>
          <a:xfrm>
            <a:off x="5637240" y="519264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Rectangle 56"/>
          <p:cNvSpPr/>
          <p:nvPr/>
        </p:nvSpPr>
        <p:spPr>
          <a:xfrm>
            <a:off x="4874760" y="381960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Oval 57"/>
          <p:cNvSpPr/>
          <p:nvPr/>
        </p:nvSpPr>
        <p:spPr>
          <a:xfrm>
            <a:off x="5851440" y="3468600"/>
            <a:ext cx="2948040" cy="1892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Text Box 58"/>
          <p:cNvSpPr/>
          <p:nvPr/>
        </p:nvSpPr>
        <p:spPr>
          <a:xfrm>
            <a:off x="157320" y="6458040"/>
            <a:ext cx="313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rtesia dr Bomban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182520" y="1400040"/>
            <a:ext cx="8610480" cy="3972240"/>
            <a:chOff x="182520" y="1400040"/>
            <a:chExt cx="8610480" cy="3972240"/>
          </a:xfrm>
        </p:grpSpPr>
        <p:sp>
          <p:nvSpPr>
            <p:cNvPr id="251" name="Rectangle 3"/>
            <p:cNvSpPr/>
            <p:nvPr/>
          </p:nvSpPr>
          <p:spPr>
            <a:xfrm>
              <a:off x="182520" y="1400040"/>
              <a:ext cx="617400" cy="3972240"/>
            </a:xfrm>
            <a:prstGeom prst="rect">
              <a:avLst/>
            </a:prstGeom>
            <a:solidFill>
              <a:srgbClr val="8eb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Rectangle 4"/>
            <p:cNvSpPr/>
            <p:nvPr/>
          </p:nvSpPr>
          <p:spPr>
            <a:xfrm>
              <a:off x="787320" y="1400040"/>
              <a:ext cx="8005680" cy="3968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>
              <a:off x="190440" y="5360040"/>
              <a:ext cx="8584920" cy="0"/>
            </a:xfrm>
            <a:prstGeom prst="line">
              <a:avLst/>
            </a:prstGeom>
            <a:ln w="12600">
              <a:solidFill>
                <a:srgbClr val="6666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4" name="Rectangle 6"/>
          <p:cNvSpPr/>
          <p:nvPr/>
        </p:nvSpPr>
        <p:spPr>
          <a:xfrm>
            <a:off x="304920" y="1628640"/>
            <a:ext cx="8597880" cy="139680"/>
          </a:xfrm>
          <a:prstGeom prst="rect">
            <a:avLst/>
          </a:prstGeom>
          <a:solidFill>
            <a:srgbClr val="2750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1600" y="428400"/>
            <a:ext cx="86108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27509c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27509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7840" y="1896840"/>
            <a:ext cx="773892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just">
              <a:lnSpc>
                <a:spcPct val="200000"/>
              </a:lnSpc>
              <a:spcBef>
                <a:spcPts val="18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L’aumento di batteri antibiotico-resistenti non si è accompagnato alla disponibilità di nuovi antibiotici, anzi lo sviluppo di nuovi antibiotici si </a:t>
            </a:r>
            <a:r>
              <a:rPr b="1" lang="it-IT" sz="2400" spc="-1" strike="noStrike">
                <a:solidFill>
                  <a:srgbClr val="00b050"/>
                </a:solidFill>
                <a:latin typeface="Tahoma"/>
              </a:rPr>
              <a:t>è ridotto drammaticamente nell’ultima dec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340560" y="6352200"/>
            <a:ext cx="97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MS 199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3588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8080"/>
                </a:solidFill>
                <a:latin typeface="Tahoma"/>
              </a:rPr>
              <a:t>La lotta contro i microrganismi multiresistenti</a:t>
            </a:r>
            <a:endParaRPr b="0" lang="en-US" sz="2800" spc="-1" strike="noStrike">
              <a:solidFill>
                <a:srgbClr val="27509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5880"/>
            <a:ext cx="8229600" cy="51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Una delle sfide in medicina del 3° millenn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he ha porta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Parlamento Europ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Comitato Economico e Sociale dell’Unione Europ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Consiglio dell’Unione Europ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Organizzazione Mondiale della Sanit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eman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una serie di raccomandazioni in cui è rilevata l’importanza del controllo delle infezioni nosocomiali e dell’uso prudente degli antibioti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1"/>
          <p:cNvSpPr/>
          <p:nvPr/>
        </p:nvSpPr>
        <p:spPr>
          <a:xfrm>
            <a:off x="684360" y="476280"/>
            <a:ext cx="77706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70c0"/>
                </a:solidFill>
                <a:latin typeface="Tahoma"/>
                <a:ea typeface="Microsoft YaHei"/>
              </a:rPr>
              <a:t>Differenza tra multiresistenti e microrganismi che causano malattie infettive diffu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684360" y="1989000"/>
            <a:ext cx="3808440" cy="4233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I microrganismi che causano malattie infettive diffusive possono contagiare e infettare soggetti sani, ivi inclusi gli operatori sanitari, e causano una malattia infettiva soggetta a notif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4643280" y="1989000"/>
            <a:ext cx="3810240" cy="4233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I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  <a:ea typeface="Microsoft YaHei"/>
              </a:rPr>
              <a:t>microrganismi multiresistent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non causano malattie infettive contagiose trasmissibili da soggetto infetto a soggetto sano, inclusi gli operatori sanitari.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  <a:ea typeface="Microsoft YaHei"/>
              </a:rPr>
              <a:t>Gli operatori sanitari, però, sono il principale veicolo di infezione per gli altri pazienti suscettibi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Oval 1"/>
          <p:cNvSpPr/>
          <p:nvPr/>
        </p:nvSpPr>
        <p:spPr>
          <a:xfrm>
            <a:off x="4572000" y="2206800"/>
            <a:ext cx="4468680" cy="3744720"/>
          </a:xfrm>
          <a:prstGeom prst="ellipse">
            <a:avLst/>
          </a:prstGeom>
          <a:solidFill>
            <a:srgbClr val="00b8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Oval 2"/>
          <p:cNvSpPr/>
          <p:nvPr/>
        </p:nvSpPr>
        <p:spPr>
          <a:xfrm>
            <a:off x="36360" y="2206800"/>
            <a:ext cx="4535640" cy="3744720"/>
          </a:xfrm>
          <a:prstGeom prst="ellipse">
            <a:avLst/>
          </a:prstGeom>
          <a:solidFill>
            <a:srgbClr val="00b8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838080" y="181080"/>
            <a:ext cx="77709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b050"/>
                </a:solidFill>
                <a:latin typeface="Arial"/>
                <a:ea typeface="Microsoft YaHei"/>
              </a:rPr>
              <a:t>…</a:t>
            </a:r>
            <a:r>
              <a:rPr b="0" lang="it-IT" sz="2800" spc="-1" strike="noStrike">
                <a:solidFill>
                  <a:srgbClr val="00b050"/>
                </a:solidFill>
                <a:latin typeface="Arial"/>
                <a:ea typeface="Microsoft YaHei"/>
              </a:rPr>
              <a:t>.</a:t>
            </a:r>
            <a:r>
              <a:rPr b="0" lang="it-IT" sz="2800" spc="-1" strike="noStrike">
                <a:solidFill>
                  <a:srgbClr val="0070c0"/>
                </a:solidFill>
                <a:latin typeface="Tahoma"/>
                <a:ea typeface="Microsoft YaHei"/>
              </a:rPr>
              <a:t>DIFFERENZA TRA COLONIZZAZIONE E INFEZI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468360" y="1717560"/>
            <a:ext cx="3808440" cy="42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COLONIZZAZION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Presenza di microrganismi sulle superfici cutanee e/o mucose e/o altri siti senza evidenza d’invasione tissutale o di reazione infiammatoria loco regionale e/o sistemica e/o risposta dell’ospi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5019840" y="1614600"/>
            <a:ext cx="3670200" cy="42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INFEZION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Presenza di microrganismi sulle superfici cutanee e/o mucose e/o in altri siti con evidenza di invasione tissutale e reazione infiammatoria; prevede l’invasione, la moltiplicazione e la risposta loco regionale e/o sistemica dell’ospi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1"/>
          <p:cNvSpPr/>
          <p:nvPr/>
        </p:nvSpPr>
        <p:spPr>
          <a:xfrm>
            <a:off x="685800" y="162000"/>
            <a:ext cx="78868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70c0"/>
                </a:solidFill>
                <a:latin typeface="Tahoma"/>
                <a:ea typeface="Microsoft YaHei"/>
              </a:rPr>
              <a:t>……</a:t>
            </a:r>
            <a:r>
              <a:rPr b="0" lang="it-IT" sz="3200" spc="-1" strike="noStrike">
                <a:solidFill>
                  <a:srgbClr val="0070c0"/>
                </a:solidFill>
                <a:latin typeface="Tahoma"/>
                <a:ea typeface="Microsoft YaHei"/>
              </a:rPr>
              <a:t>CONFRO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Text Box 2"/>
          <p:cNvSpPr/>
          <p:nvPr/>
        </p:nvSpPr>
        <p:spPr>
          <a:xfrm>
            <a:off x="630360" y="1341360"/>
            <a:ext cx="3868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COLONIZZ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630360" y="2505240"/>
            <a:ext cx="3868560" cy="3684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388800"/>
                <a:tab algn="l" pos="838080"/>
                <a:tab algn="l" pos="1287360"/>
                <a:tab algn="l" pos="1736640"/>
                <a:tab algn="l" pos="2185920"/>
                <a:tab algn="l" pos="2635200"/>
                <a:tab algn="l" pos="3084480"/>
                <a:tab algn="l" pos="3533760"/>
                <a:tab algn="l" pos="3983040"/>
                <a:tab algn="l" pos="4432320"/>
                <a:tab algn="l" pos="488160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6560"/>
                <a:tab algn="l" pos="8475840"/>
                <a:tab algn="l" pos="892476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Pazienti che non presentano sintomi di infezione (febbre, leucocitosi) ma che albergano nel loro organismo un microrganism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4040" indent="-284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388800"/>
                <a:tab algn="l" pos="838080"/>
                <a:tab algn="l" pos="1287360"/>
                <a:tab algn="l" pos="1736640"/>
                <a:tab algn="l" pos="2185920"/>
                <a:tab algn="l" pos="2635200"/>
                <a:tab algn="l" pos="3084480"/>
                <a:tab algn="l" pos="3533760"/>
                <a:tab algn="l" pos="3983040"/>
                <a:tab algn="l" pos="4432320"/>
                <a:tab algn="l" pos="488160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6560"/>
                <a:tab algn="l" pos="8475840"/>
                <a:tab algn="l" pos="892476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I microrganismi che colonizzano i pazienti possono essere trasmessi ad altri pazienti per mezzo delle attività assistenziali e mani degli operator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4040" indent="-2840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84040"/>
                <a:tab algn="l" pos="388800"/>
                <a:tab algn="l" pos="838080"/>
                <a:tab algn="l" pos="1287360"/>
                <a:tab algn="l" pos="1736640"/>
                <a:tab algn="l" pos="2185920"/>
                <a:tab algn="l" pos="2635200"/>
                <a:tab algn="l" pos="3084480"/>
                <a:tab algn="l" pos="3533760"/>
                <a:tab algn="l" pos="3983040"/>
                <a:tab algn="l" pos="4432320"/>
                <a:tab algn="l" pos="4881600"/>
                <a:tab algn="l" pos="5330880"/>
                <a:tab algn="l" pos="5780160"/>
                <a:tab algn="l" pos="6229440"/>
                <a:tab algn="l" pos="6678720"/>
                <a:tab algn="l" pos="7128000"/>
                <a:tab algn="l" pos="7577280"/>
                <a:tab algn="l" pos="8026560"/>
                <a:tab algn="l" pos="8475840"/>
                <a:tab algn="l" pos="892476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Non c’è bisogno di terap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4629240" y="1487520"/>
            <a:ext cx="38876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INFE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4629240" y="2505240"/>
            <a:ext cx="3887640" cy="3684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Pazienti che presentano sintomi di infezione (febbre, leucocitosi) e che albergano nel loro organismo un microrganism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Le infezioni frequentemente si sviluppano da batteri che colonizzano i pazien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C’e bisogno di terapia antibiotic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1"/>
          <p:cNvSpPr/>
          <p:nvPr/>
        </p:nvSpPr>
        <p:spPr>
          <a:xfrm>
            <a:off x="819000" y="-425520"/>
            <a:ext cx="777096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…</a:t>
            </a:r>
            <a:r>
              <a:rPr b="0" lang="it-IT" sz="2800" spc="-1" strike="noStrike">
                <a:solidFill>
                  <a:srgbClr val="0070c0"/>
                </a:solidFill>
                <a:latin typeface="Tahoma"/>
                <a:ea typeface="Microsoft YaHei"/>
              </a:rPr>
              <a:t>interventi per fenomeno multiresistenz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Oval 2"/>
          <p:cNvSpPr/>
          <p:nvPr/>
        </p:nvSpPr>
        <p:spPr>
          <a:xfrm>
            <a:off x="871560" y="1668600"/>
            <a:ext cx="2232000" cy="1346040"/>
          </a:xfrm>
          <a:prstGeom prst="ellipse">
            <a:avLst/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Accurata diagnosi microbiologic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Oval 3"/>
          <p:cNvSpPr/>
          <p:nvPr/>
        </p:nvSpPr>
        <p:spPr>
          <a:xfrm>
            <a:off x="5508720" y="1698480"/>
            <a:ext cx="2448000" cy="1285920"/>
          </a:xfrm>
          <a:prstGeom prst="ellipse">
            <a:avLst/>
          </a:prstGeom>
          <a:solidFill>
            <a:srgbClr val="00b0f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Immediata segnalazione dal  laborator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Oval 4"/>
          <p:cNvSpPr/>
          <p:nvPr/>
        </p:nvSpPr>
        <p:spPr>
          <a:xfrm>
            <a:off x="819000" y="3295800"/>
            <a:ext cx="2559240" cy="1347480"/>
          </a:xfrm>
          <a:prstGeom prst="ellipse">
            <a:avLst/>
          </a:prstGeom>
          <a:solidFill>
            <a:srgbClr val="00b05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Avvio programma di sorveglianz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Oval 5"/>
          <p:cNvSpPr/>
          <p:nvPr/>
        </p:nvSpPr>
        <p:spPr>
          <a:xfrm>
            <a:off x="5308560" y="3308400"/>
            <a:ext cx="2693880" cy="1279440"/>
          </a:xfrm>
          <a:prstGeom prst="ellipse">
            <a:avLst/>
          </a:prstGeom>
          <a:solidFill>
            <a:srgbClr val="ff66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Corretta prescrizione antibioti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2662200" y="4822920"/>
            <a:ext cx="3600360" cy="1218960"/>
          </a:xfrm>
          <a:prstGeom prst="rect">
            <a:avLst/>
          </a:prstGeom>
          <a:solidFill>
            <a:srgbClr val="ff0000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Adozione di misure di prevenzione dell’assistenza al paziente colonizza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77" name="AutoShape 7"/>
          <p:cNvCxnSpPr/>
          <p:nvPr/>
        </p:nvCxnSpPr>
        <p:spPr>
          <a:xfrm>
            <a:off x="2771280" y="2276640"/>
            <a:ext cx="3242520" cy="21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AutoShape 8"/>
          <p:cNvCxnSpPr/>
          <p:nvPr/>
        </p:nvCxnSpPr>
        <p:spPr>
          <a:xfrm flipH="1">
            <a:off x="2896560" y="2565000"/>
            <a:ext cx="3305880" cy="10036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AutoShape 9"/>
          <p:cNvCxnSpPr/>
          <p:nvPr/>
        </p:nvCxnSpPr>
        <p:spPr>
          <a:xfrm>
            <a:off x="3059280" y="4103280"/>
            <a:ext cx="2808720" cy="252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"/>
          <p:cNvCxnSpPr/>
          <p:nvPr/>
        </p:nvCxnSpPr>
        <p:spPr>
          <a:xfrm flipH="1">
            <a:off x="4549320" y="4049280"/>
            <a:ext cx="1331280" cy="9867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684360" y="476280"/>
            <a:ext cx="77706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70c0"/>
                </a:solidFill>
                <a:latin typeface="Arial"/>
                <a:ea typeface="Microsoft YaHei"/>
              </a:rPr>
              <a:t>Misure per prevenire la trasmission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684360" y="1989000"/>
            <a:ext cx="6551640" cy="42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Applicazione costante di pratiche assistenziali corret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Applicazione delle precauzioni aggiuntive alle stand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1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È un lavoro di equ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AutoShape 3"/>
          <p:cNvSpPr/>
          <p:nvPr/>
        </p:nvSpPr>
        <p:spPr>
          <a:xfrm>
            <a:off x="5759280" y="3473280"/>
            <a:ext cx="3384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Oval 1"/>
          <p:cNvSpPr/>
          <p:nvPr/>
        </p:nvSpPr>
        <p:spPr>
          <a:xfrm>
            <a:off x="5148360" y="4653000"/>
            <a:ext cx="3744720" cy="2016000"/>
          </a:xfrm>
          <a:prstGeom prst="ellipse">
            <a:avLst/>
          </a:prstGeom>
          <a:solidFill>
            <a:srgbClr val="00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Oval 2"/>
          <p:cNvSpPr/>
          <p:nvPr/>
        </p:nvSpPr>
        <p:spPr>
          <a:xfrm>
            <a:off x="250920" y="333360"/>
            <a:ext cx="3168720" cy="3313080"/>
          </a:xfrm>
          <a:prstGeom prst="ellipse">
            <a:avLst/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474840" y="754200"/>
            <a:ext cx="2663640" cy="23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MRS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 (Stafylococco aureu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Meticillino resistente)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ACINETOBACTER BAUMANI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VR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 (Enterococchi vancomicin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Resistenti)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ESBL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 (Enterobatteriacee produttrici di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beta-lattamasi a spettro allargato)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KPC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(Kblebsiella pneumoniae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Carbapenemase)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STENOTROPONOMAS MALTOPHILI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Oval 4"/>
          <p:cNvSpPr/>
          <p:nvPr/>
        </p:nvSpPr>
        <p:spPr>
          <a:xfrm>
            <a:off x="3419640" y="1916280"/>
            <a:ext cx="2734920" cy="2879640"/>
          </a:xfrm>
          <a:prstGeom prst="ellipse">
            <a:avLst/>
          </a:prstGeom>
          <a:solidFill>
            <a:srgbClr val="ff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3348000" y="2133720"/>
            <a:ext cx="2879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CU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SANG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URI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VIE RESPIRATOR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DRENAGG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FERI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5364000" y="5013360"/>
            <a:ext cx="3240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PRECAUZIONI STAND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CONTAT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CONTATTO + DROPL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Oval 1"/>
          <p:cNvSpPr/>
          <p:nvPr/>
        </p:nvSpPr>
        <p:spPr>
          <a:xfrm>
            <a:off x="684360" y="620640"/>
            <a:ext cx="7920000" cy="6237360"/>
          </a:xfrm>
          <a:prstGeom prst="ellipse">
            <a:avLst/>
          </a:prstGeom>
          <a:solidFill>
            <a:srgbClr val="cc99ff">
              <a:alpha val="53000"/>
            </a:srgbClr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Oval 2"/>
          <p:cNvSpPr/>
          <p:nvPr/>
        </p:nvSpPr>
        <p:spPr>
          <a:xfrm>
            <a:off x="2916360" y="1557360"/>
            <a:ext cx="5472000" cy="4680000"/>
          </a:xfrm>
          <a:prstGeom prst="ellipse">
            <a:avLst/>
          </a:prstGeom>
          <a:solidFill>
            <a:srgbClr val="00b8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Oval 3"/>
          <p:cNvSpPr/>
          <p:nvPr/>
        </p:nvSpPr>
        <p:spPr>
          <a:xfrm>
            <a:off x="826920" y="1413000"/>
            <a:ext cx="5400720" cy="4680000"/>
          </a:xfrm>
          <a:prstGeom prst="ellipse">
            <a:avLst/>
          </a:prstGeom>
          <a:solidFill>
            <a:srgbClr val="ffff00">
              <a:alpha val="55000"/>
            </a:srgbClr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3635280" y="3213000"/>
            <a:ext cx="20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Materiale respirato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1258920" y="2492280"/>
            <a:ext cx="151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c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sang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ur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drenagg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feri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6012000" y="2276640"/>
            <a:ext cx="1657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DROPLET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(gocciolin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1835280" y="1773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CONTAT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3419640" y="1159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304920" y="1978200"/>
            <a:ext cx="8610480" cy="2784240"/>
            <a:chOff x="304920" y="1978200"/>
            <a:chExt cx="8610480" cy="2784240"/>
          </a:xfrm>
        </p:grpSpPr>
        <p:sp>
          <p:nvSpPr>
            <p:cNvPr id="54" name="Rectangle 3"/>
            <p:cNvSpPr/>
            <p:nvPr/>
          </p:nvSpPr>
          <p:spPr>
            <a:xfrm>
              <a:off x="304920" y="1978200"/>
              <a:ext cx="617400" cy="2784240"/>
            </a:xfrm>
            <a:prstGeom prst="rect">
              <a:avLst/>
            </a:prstGeom>
            <a:solidFill>
              <a:srgbClr val="8eb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4"/>
            <p:cNvSpPr/>
            <p:nvPr/>
          </p:nvSpPr>
          <p:spPr>
            <a:xfrm>
              <a:off x="909720" y="1978200"/>
              <a:ext cx="8005680" cy="278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Line 5"/>
            <p:cNvSpPr/>
            <p:nvPr/>
          </p:nvSpPr>
          <p:spPr>
            <a:xfrm>
              <a:off x="312840" y="4754160"/>
              <a:ext cx="8584920" cy="0"/>
            </a:xfrm>
            <a:prstGeom prst="line">
              <a:avLst/>
            </a:prstGeom>
            <a:ln w="12600">
              <a:solidFill>
                <a:srgbClr val="6666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Rectangle 6"/>
          <p:cNvSpPr/>
          <p:nvPr/>
        </p:nvSpPr>
        <p:spPr>
          <a:xfrm>
            <a:off x="304920" y="1836720"/>
            <a:ext cx="8597880" cy="139680"/>
          </a:xfrm>
          <a:prstGeom prst="rect">
            <a:avLst/>
          </a:prstGeom>
          <a:solidFill>
            <a:srgbClr val="2750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536400"/>
            <a:ext cx="7826400" cy="3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7509c"/>
                </a:solidFill>
                <a:latin typeface="Tahoma"/>
              </a:rPr>
              <a:t>Le sfide</a:t>
            </a:r>
            <a:endParaRPr b="0" lang="en-US" sz="2800" spc="-1" strike="noStrike">
              <a:solidFill>
                <a:srgbClr val="27509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9120" y="2304720"/>
            <a:ext cx="7758000" cy="21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Nuovi patogeni o patogeni riemergent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Infezioni ospedalie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3399"/>
                </a:solidFill>
                <a:latin typeface="Tahoma"/>
              </a:rPr>
              <a:t>La resistenza agli antibiotic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340560" y="6352200"/>
            <a:ext cx="97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MS 199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666360"/>
            <a:ext cx="86104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8080"/>
                </a:solidFill>
                <a:latin typeface="Tahoma"/>
              </a:rPr>
              <a:t>CAUSE</a:t>
            </a:r>
            <a:endParaRPr b="0" lang="en-US" sz="2800" spc="-1" strike="noStrike">
              <a:solidFill>
                <a:srgbClr val="27509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20934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19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Il fenomeno della multiresistenza viene per lo più associato a un uso improprio degli antibiotici e alla mancata adozione da parte del personale sanitario di comportamenti atti a ridurre il rischio di trasmissione di microrganismi resistenti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306360" y="1434960"/>
            <a:ext cx="8661240" cy="2849400"/>
            <a:chOff x="306360" y="1434960"/>
            <a:chExt cx="8661240" cy="2849400"/>
          </a:xfrm>
        </p:grpSpPr>
        <p:sp>
          <p:nvSpPr>
            <p:cNvPr id="64" name="Rectangle 3"/>
            <p:cNvSpPr/>
            <p:nvPr/>
          </p:nvSpPr>
          <p:spPr>
            <a:xfrm>
              <a:off x="357120" y="1468080"/>
              <a:ext cx="617400" cy="24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961920" y="1471320"/>
              <a:ext cx="8005680" cy="24382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841320" y="1690560"/>
              <a:ext cx="8126280" cy="20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just">
                <a:lnSpc>
                  <a:spcPct val="11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3399"/>
                  </a:solidFill>
                  <a:latin typeface="Tahoma"/>
                </a:rPr>
                <a:t>Entrando nel nuovo millennio, dobbiamo rinnovare il nostro impegno per la prevenzione ed il controllo delle malattie infettive, riconoscendo che la competizione tra gli uomini e i microbi continuerà per lungo tempo, nella nostra vita e in quella dei nostri figli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06360" y="4009680"/>
              <a:ext cx="3333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Jeffrey P. Koplan, Director, CD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Line 7"/>
            <p:cNvSpPr/>
            <p:nvPr/>
          </p:nvSpPr>
          <p:spPr>
            <a:xfrm>
              <a:off x="365040" y="3909600"/>
              <a:ext cx="8584920" cy="1800"/>
            </a:xfrm>
            <a:prstGeom prst="line">
              <a:avLst/>
            </a:prstGeom>
            <a:ln w="1260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Line 8"/>
            <p:cNvSpPr/>
            <p:nvPr/>
          </p:nvSpPr>
          <p:spPr>
            <a:xfrm>
              <a:off x="357120" y="1434960"/>
              <a:ext cx="8592840" cy="0"/>
            </a:xfrm>
            <a:prstGeom prst="line">
              <a:avLst/>
            </a:prstGeom>
            <a:ln w="7632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666360"/>
            <a:ext cx="86104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8080"/>
                </a:solidFill>
                <a:latin typeface="Tahoma"/>
              </a:rPr>
              <a:t>CONSEGUENZE</a:t>
            </a:r>
            <a:endParaRPr b="0" lang="en-US" sz="2800" spc="-1" strike="noStrike">
              <a:solidFill>
                <a:srgbClr val="27509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47200" y="1865520"/>
            <a:ext cx="8124840" cy="23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9000"/>
          </a:bodyPr>
          <a:p>
            <a:pPr marL="339480" indent="-339480" algn="just">
              <a:lnSpc>
                <a:spcPct val="150000"/>
              </a:lnSpc>
              <a:spcBef>
                <a:spcPts val="19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le infezioni da tali microrganismi comportano un aumento della mortalità specifica e dei costi ospedalieri dovuti al prolungamento della degenza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2"/>
          <p:cNvGrpSpPr/>
          <p:nvPr/>
        </p:nvGrpSpPr>
        <p:grpSpPr>
          <a:xfrm>
            <a:off x="174600" y="1717560"/>
            <a:ext cx="8610480" cy="3971880"/>
            <a:chOff x="174600" y="1717560"/>
            <a:chExt cx="8610480" cy="3971880"/>
          </a:xfrm>
        </p:grpSpPr>
        <p:sp>
          <p:nvSpPr>
            <p:cNvPr id="73" name="Rectangle 3"/>
            <p:cNvSpPr/>
            <p:nvPr/>
          </p:nvSpPr>
          <p:spPr>
            <a:xfrm>
              <a:off x="174600" y="1717560"/>
              <a:ext cx="617400" cy="3971880"/>
            </a:xfrm>
            <a:prstGeom prst="rect">
              <a:avLst/>
            </a:prstGeom>
            <a:solidFill>
              <a:srgbClr val="8eb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4"/>
            <p:cNvSpPr/>
            <p:nvPr/>
          </p:nvSpPr>
          <p:spPr>
            <a:xfrm>
              <a:off x="779400" y="1717560"/>
              <a:ext cx="8005680" cy="3967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Line 5"/>
            <p:cNvSpPr/>
            <p:nvPr/>
          </p:nvSpPr>
          <p:spPr>
            <a:xfrm>
              <a:off x="182520" y="5677200"/>
              <a:ext cx="8584920" cy="0"/>
            </a:xfrm>
            <a:prstGeom prst="line">
              <a:avLst/>
            </a:prstGeom>
            <a:ln w="12600">
              <a:solidFill>
                <a:srgbClr val="6666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6" name="Rectangle 6"/>
          <p:cNvSpPr/>
          <p:nvPr/>
        </p:nvSpPr>
        <p:spPr>
          <a:xfrm>
            <a:off x="174600" y="1576440"/>
            <a:ext cx="8597880" cy="139680"/>
          </a:xfrm>
          <a:prstGeom prst="rect">
            <a:avLst/>
          </a:prstGeom>
          <a:solidFill>
            <a:srgbClr val="2750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9760" y="445680"/>
            <a:ext cx="86104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7509c"/>
                </a:solidFill>
                <a:latin typeface="Tahoma"/>
              </a:rPr>
              <a:t>Il problema delle resistenze</a:t>
            </a:r>
            <a:endParaRPr b="0" lang="en-US" sz="2800" spc="-1" strike="noStrike">
              <a:solidFill>
                <a:srgbClr val="27509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63120" y="1903320"/>
            <a:ext cx="7758360" cy="357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22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La resistenza agli agenti antibatterici è oggi</a:t>
            </a:r>
            <a:br>
              <a:rPr sz="2200"/>
            </a:b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uno dei maggiori problemi di salute pubblica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6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L’incidenza delle resistenze è aumentata in modo allarmante negli ultimi ann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375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Con l’emergenza dei ceppi multiresistenti, i medici si trovano ad affrontare infezioni che rispondono solo a farmaci costosi o tossici, o per le quali non vi è terapia effica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375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Il tempo per l’autocompiacimento è passato, vi è necessità di una maggiore vigilanza e di misure urgent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340560" y="6352200"/>
            <a:ext cx="97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MS 199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" name="Object 10" descr=""/>
          <p:cNvPicPr/>
          <p:nvPr/>
        </p:nvPicPr>
        <p:blipFill>
          <a:blip r:embed="rId1"/>
          <a:stretch/>
        </p:blipFill>
        <p:spPr>
          <a:xfrm>
            <a:off x="7354800" y="-519120"/>
            <a:ext cx="16002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556920"/>
            <a:ext cx="86104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7509c"/>
                </a:solidFill>
                <a:latin typeface="Tahoma"/>
              </a:rPr>
              <a:t>La pressione selettiva</a:t>
            </a:r>
            <a:endParaRPr b="0" lang="en-US" sz="2800" spc="-1" strike="noStrike">
              <a:solidFill>
                <a:srgbClr val="27509c"/>
              </a:solidFill>
              <a:latin typeface="Tahoma"/>
            </a:endParaRPr>
          </a:p>
        </p:txBody>
      </p:sp>
      <p:sp>
        <p:nvSpPr>
          <p:cNvPr id="82" name="Rettangolo 2"/>
          <p:cNvSpPr/>
          <p:nvPr/>
        </p:nvSpPr>
        <p:spPr>
          <a:xfrm>
            <a:off x="655560" y="2604960"/>
            <a:ext cx="8193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I  batteri, virus, funghi … si riproducono molto velocemente e  le loro </a:t>
            </a:r>
            <a:r>
              <a:rPr b="1" lang="it-IT" sz="3200" spc="-1" strike="noStrike">
                <a:solidFill>
                  <a:srgbClr val="00b050"/>
                </a:solidFill>
                <a:latin typeface="Tahoma"/>
              </a:rPr>
              <a:t>possibilità evolutive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ovvero la capacità di adattarsi all'ambiente) sono molto più elevate di quelle degli organismi superiori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" name="Immagine 4" descr=""/>
          <p:cNvPicPr/>
          <p:nvPr/>
        </p:nvPicPr>
        <p:blipFill>
          <a:blip r:embed="rId1"/>
          <a:stretch/>
        </p:blipFill>
        <p:spPr>
          <a:xfrm>
            <a:off x="5418000" y="122400"/>
            <a:ext cx="2797200" cy="22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304920" y="1770120"/>
            <a:ext cx="8610480" cy="3971880"/>
            <a:chOff x="304920" y="1770120"/>
            <a:chExt cx="8610480" cy="3971880"/>
          </a:xfrm>
        </p:grpSpPr>
        <p:sp>
          <p:nvSpPr>
            <p:cNvPr id="85" name="Rectangle 3"/>
            <p:cNvSpPr/>
            <p:nvPr/>
          </p:nvSpPr>
          <p:spPr>
            <a:xfrm>
              <a:off x="304920" y="1770120"/>
              <a:ext cx="617400" cy="3971880"/>
            </a:xfrm>
            <a:prstGeom prst="rect">
              <a:avLst/>
            </a:prstGeom>
            <a:solidFill>
              <a:srgbClr val="8eb5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Rectangle 4"/>
            <p:cNvSpPr/>
            <p:nvPr/>
          </p:nvSpPr>
          <p:spPr>
            <a:xfrm>
              <a:off x="909720" y="1770120"/>
              <a:ext cx="8005680" cy="3967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Line 5"/>
            <p:cNvSpPr/>
            <p:nvPr/>
          </p:nvSpPr>
          <p:spPr>
            <a:xfrm>
              <a:off x="312840" y="5729760"/>
              <a:ext cx="8584920" cy="0"/>
            </a:xfrm>
            <a:prstGeom prst="line">
              <a:avLst/>
            </a:prstGeom>
            <a:ln w="12600">
              <a:solidFill>
                <a:srgbClr val="6666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8" name="Rectangle 6"/>
          <p:cNvSpPr/>
          <p:nvPr/>
        </p:nvSpPr>
        <p:spPr>
          <a:xfrm>
            <a:off x="304920" y="1628640"/>
            <a:ext cx="8597880" cy="139680"/>
          </a:xfrm>
          <a:prstGeom prst="rect">
            <a:avLst/>
          </a:prstGeom>
          <a:solidFill>
            <a:srgbClr val="2750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91600" y="404640"/>
            <a:ext cx="8610840" cy="3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7509c"/>
                </a:solidFill>
                <a:latin typeface="Tahoma"/>
              </a:rPr>
              <a:t>La pressione selettiva</a:t>
            </a:r>
            <a:endParaRPr b="0" lang="en-US" sz="2800" spc="-1" strike="noStrike">
              <a:solidFill>
                <a:srgbClr val="27509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0960" y="2684160"/>
            <a:ext cx="7758000" cy="29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21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ahoma"/>
              </a:rPr>
              <a:t>L’esposizione dei batteri ad un antibiotico favorisce la selezione </a:t>
            </a:r>
            <a:r>
              <a:rPr b="1" lang="it-IT" sz="2800" spc="-1" strike="noStrike">
                <a:solidFill>
                  <a:srgbClr val="00b050"/>
                </a:solidFill>
                <a:latin typeface="Tahoma"/>
                <a:ea typeface="Tahoma"/>
              </a:rPr>
              <a:t>dei ceppi mutanti resisten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340560" y="6352200"/>
            <a:ext cx="97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MS 199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Immagine 1" descr=""/>
          <p:cNvPicPr/>
          <p:nvPr/>
        </p:nvPicPr>
        <p:blipFill>
          <a:blip r:embed="rId1"/>
          <a:stretch/>
        </p:blipFill>
        <p:spPr>
          <a:xfrm>
            <a:off x="3657600" y="3711600"/>
            <a:ext cx="251136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0T17:44:37Z</dcterms:created>
  <dc:creator>03185</dc:creator>
  <dc:description/>
  <dc:language>en-US</dc:language>
  <cp:lastModifiedBy>domenico.protano</cp:lastModifiedBy>
  <cp:lastPrinted>2007-11-20T16:19:51Z</cp:lastPrinted>
  <dcterms:modified xsi:type="dcterms:W3CDTF">2018-09-12T08:33:47Z</dcterms:modified>
  <cp:revision>58</cp:revision>
  <dc:subject/>
  <dc:title>Nessun titolo diapositiva</dc:title>
</cp:coreProperties>
</file>