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0800" cy="974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2960" y="0"/>
            <a:ext cx="29685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987120" y="730080"/>
            <a:ext cx="48769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912600" y="4629240"/>
            <a:ext cx="502596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0" y="9259920"/>
            <a:ext cx="29685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2960" y="9259920"/>
            <a:ext cx="29685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2CFBF-E02E-48F9-829A-D6E0196AA01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88920" y="730080"/>
            <a:ext cx="4873680" cy="36561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2600" y="4629240"/>
            <a:ext cx="502596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E’ più “grave” la meningite da HIB o il morbillo? Ottica individuale e di popolaz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A6F1-9188-48F7-8CA8-78FD0ECD1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D217-4359-4199-9949-8285DD8E7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073F-4468-4DE6-BB31-72E9B8B6F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062A-CD30-4578-8B55-B6EADCDE7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681AF-195F-4846-9B06-F3E01B094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8EDB3-4E21-48DD-8E92-14D5502CA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B65B5-F9E1-44C3-AA10-96A3C1AF7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B0363-0B16-4688-815B-61FCCF72B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A3EE8-F858-42F9-8D7B-35845502D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81887-4E9F-4A05-9C1C-54FB2DA28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583DA-9F73-49A3-A6F0-FA372EFE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5208-ACF8-40A1-A144-150664DF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11444-0692-4E36-985A-994351B6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78A9C-FFF2-438F-88CA-82A22532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E3E60-18AE-445D-BD44-A34E901C8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A462A-92A5-4DB3-8F5E-4EED4B8CA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84419-3183-4A66-924F-A785D1D11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B94F-112A-413F-A6EC-312409842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52DB-0DFC-46D7-8AFB-665A190FA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8956-DD70-4255-BF8A-5FB112FDC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075D-8397-4AA9-9EF3-63713C950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1DCD-1FD1-4C23-8EF2-4CA837A7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CB3B-3DB0-4307-8939-FE90D962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4E83-EE28-4DDE-8E99-65067F30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A42B7-8AB8-4E78-9FE6-82F63F74EE68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E52D2-A96A-4CCB-9D92-35AAEE2466FB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72388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ffff"/>
                </a:solidFill>
                <a:latin typeface="Times New Roman"/>
              </a:rPr>
              <a:t>Il controllo delle infezioni 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Times New Roman"/>
              </a:rPr>
              <a:t>Le modalità generali di diffusione delle malattie infettiv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624852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Servizio Epidemiologia e Prevenzione, ASL Caser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ffff"/>
                </a:solidFill>
                <a:latin typeface="Times New Roman"/>
              </a:rPr>
              <a:t>Fattori limitanti/facilitanti </a:t>
            </a:r>
            <a:br>
              <a:rPr sz="4400"/>
            </a:br>
            <a:r>
              <a:rPr b="0" lang="it-IT" sz="4400" spc="-1" strike="noStrike">
                <a:solidFill>
                  <a:srgbClr val="00ffff"/>
                </a:solidFill>
                <a:latin typeface="Times New Roman"/>
              </a:rPr>
              <a:t>legati all’ospit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Times New Roman"/>
              </a:rPr>
              <a:t>Resistenza aspecific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it-IT" sz="3600" spc="-1" strike="noStrike">
                <a:solidFill>
                  <a:srgbClr val="ffffff"/>
                </a:solidFill>
                <a:latin typeface="Times New Roman"/>
              </a:rPr>
              <a:t>resistenza di barriera”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467480" y="2362320"/>
            <a:ext cx="304920" cy="761760"/>
          </a:xfrm>
          <a:custGeom>
            <a:avLst/>
            <a:gdLst>
              <a:gd name="textAreaLeft" fmla="*/ 40680 w 304920"/>
              <a:gd name="textAreaRight" fmla="*/ 264240 w 304920"/>
              <a:gd name="textAreaTop" fmla="*/ 133200 h 761760"/>
              <a:gd name="textAreaBottom" fmla="*/ 55224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95480" y="3581280"/>
            <a:ext cx="4648320" cy="25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Resistenza specif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9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Immunità di spec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9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Immunità di razz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9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Immunità individua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" y="6248520"/>
            <a:ext cx="8915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ffff"/>
                </a:solidFill>
                <a:latin typeface="Times New Roman"/>
              </a:rPr>
              <a:t>Fattori limitanti/facilitanti </a:t>
            </a:r>
            <a:br>
              <a:rPr sz="4400"/>
            </a:br>
            <a:r>
              <a:rPr b="0" lang="it-IT" sz="4400" spc="-1" strike="noStrike">
                <a:solidFill>
                  <a:srgbClr val="00ffff"/>
                </a:solidFill>
                <a:latin typeface="Times New Roman"/>
              </a:rPr>
              <a:t>legati all’ospit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8600" y="6248520"/>
            <a:ext cx="8915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71240" y="220932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Nelle malattie a trasmission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esclusivamente interuma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Immunità individuale          Immunità di grupp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Se una percentuale “critica” di individui è immunoprotetta il gruppo degli immuni </a:t>
            </a: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difende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 gli individui non immun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876920" y="3352680"/>
            <a:ext cx="457200" cy="304920"/>
          </a:xfrm>
          <a:prstGeom prst="leftRightArrow">
            <a:avLst>
              <a:gd name="adj1" fmla="val 50000"/>
              <a:gd name="adj2" fmla="val 29849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ffff"/>
                </a:solidFill>
                <a:latin typeface="Times New Roman"/>
              </a:rPr>
              <a:t>La protezione fornita dalla immunità di gruppo </a:t>
            </a:r>
            <a:r>
              <a:rPr b="0" lang="it-IT" sz="3200" spc="-1" strike="noStrike">
                <a:solidFill>
                  <a:srgbClr val="00ffff"/>
                </a:solidFill>
                <a:latin typeface="Times New Roman"/>
              </a:rPr>
              <a:t>(herd immunity)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" y="6248520"/>
            <a:ext cx="8915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70000" y="217476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52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Livelli critici di immunoprotetti per bloccare la diffusione di alcune malatt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Times New Roman"/>
              </a:rPr>
              <a:t>Morbillo</a:t>
            </a:r>
            <a:r>
              <a:rPr b="0" lang="it-IT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ffff00"/>
                </a:solidFill>
                <a:latin typeface="Times New Roman"/>
              </a:rPr>
              <a:t>92-95 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Times New Roman"/>
              </a:rPr>
              <a:t>Pertosse</a:t>
            </a:r>
            <a:r>
              <a:rPr b="0" lang="it-IT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ffff00"/>
                </a:solidFill>
                <a:latin typeface="Times New Roman"/>
              </a:rPr>
              <a:t>92-95 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Times New Roman"/>
              </a:rPr>
              <a:t>Parotite</a:t>
            </a:r>
            <a:r>
              <a:rPr b="0" lang="it-IT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ffff00"/>
                </a:solidFill>
                <a:latin typeface="Times New Roman"/>
              </a:rPr>
              <a:t>90-92 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Times New Roman"/>
              </a:rPr>
              <a:t>Rosolia</a:t>
            </a:r>
            <a:r>
              <a:rPr b="0" lang="it-IT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ffff00"/>
                </a:solidFill>
                <a:latin typeface="Times New Roman"/>
              </a:rPr>
              <a:t>85-87 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Times New Roman"/>
              </a:rPr>
              <a:t>Poliomelite</a:t>
            </a:r>
            <a:r>
              <a:rPr b="0" lang="it-IT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ffff00"/>
                </a:solidFill>
                <a:latin typeface="Times New Roman"/>
              </a:rPr>
              <a:t>80-85 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ffff"/>
                </a:solidFill>
                <a:latin typeface="Times New Roman"/>
              </a:rPr>
              <a:t>Come si trasmettono le malattie infettiv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901"/>
              </a:spcBef>
              <a:buClr>
                <a:srgbClr val="ffff00"/>
              </a:buClr>
              <a:buSzPct val="9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Times New Roman"/>
              </a:rPr>
              <a:t>Trasmissione dirett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1a)</a:t>
            </a:r>
            <a:r>
              <a:rPr b="0" lang="it-IT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tramite goccioline (“droplet”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901"/>
              </a:spcBef>
              <a:buClr>
                <a:srgbClr val="ffff00"/>
              </a:buClr>
              <a:buSzPct val="90000"/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Times New Roman"/>
              </a:rPr>
              <a:t>Trasmissione indirett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2a) tramite “veicoli comuni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2b) tramite vettor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901"/>
              </a:spcBef>
              <a:buClr>
                <a:srgbClr val="ffff00"/>
              </a:buClr>
              <a:buSzPct val="90000"/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Times New Roman"/>
              </a:rPr>
              <a:t>Trasmissione per via aere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" y="6248520"/>
            <a:ext cx="8915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0ffff"/>
                </a:solidFill>
                <a:latin typeface="Times New Roman"/>
              </a:rPr>
              <a:t>Trasmissione diretta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13372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Trasferimento del germe diretto e “immediato” verso una porta di ingresso recettiva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(es. toccando, baciando, a seguito di rapporto sessuale, ecc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Trasferimento tramite le goccioline (</a:t>
            </a:r>
            <a:r>
              <a:rPr b="0" lang="it-IT" sz="3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 5 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ahoma"/>
              </a:rPr>
              <a:t>µm) a causa di starnuti, tosse, ecc. di una persona infet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" y="6248520"/>
            <a:ext cx="8915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0ffff"/>
                </a:solidFill>
                <a:latin typeface="Times New Roman"/>
              </a:rPr>
              <a:t>Trasmissione indiretta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Trasferimento attraverso un veicolo inanimato 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(es.giocattoli, aghi, mani sporche, ecc.)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che sia venuto direttamente in contatto con il germ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Trasferimento attraverso un veicolo biologico 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(es.cibo, latte, acqua, ecc.)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in cui il germe può esservi giunto anche per via indiretta 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(es.cibo contaminato da mani sporche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6248520"/>
            <a:ext cx="8915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0ffff"/>
                </a:solidFill>
                <a:latin typeface="Times New Roman"/>
              </a:rPr>
              <a:t>Trasmissione indiretta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Trasferimento attraverso vettore che trasporta passivamente il germe 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(es.zampe contaminate di una mosca, ecc.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Trasferimento del germe attraverso vettore che lo trasporta “attivamente” costituendone un ospite intermedio o definitivo in cui si moltiplica 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(es. zanzara anofele per il plasmodio o zecca per la borreli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6248520"/>
            <a:ext cx="8915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0ffff"/>
                </a:solidFill>
                <a:latin typeface="Times New Roman"/>
              </a:rPr>
              <a:t>Trasmissione per via aerea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Disseminazione nei nuclei di goccioline (</a:t>
            </a:r>
            <a:r>
              <a:rPr b="0" lang="it-IT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 5 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ahoma"/>
              </a:rPr>
              <a:t>µm) o particelle di polvere che rimangono sospesi nell’a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ffff"/>
                </a:solidFill>
                <a:latin typeface="Times New Roman"/>
              </a:rPr>
              <a:t>Le misure per limitare la diffusione delle infezioni in comunità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Migliorare la copertura immunitaria per le malattie prevenibili con vaccinazi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Allontanare tempestivamente i soggetti potenzialmente infettanti per cui non siano possibili altri provvedimenti alternativ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Profilassare (quando possibile) i contatti di malattie potenzialmente ser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6248520"/>
            <a:ext cx="8915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ffff"/>
                </a:solidFill>
                <a:latin typeface="Times New Roman"/>
              </a:rPr>
              <a:t>Le misure per limitare la diffusione delle infezioni in comunità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Applicare con precisione e continuità le “precauzioni standard” per diminuire il rischio di trasmissione di infezioni da </a:t>
            </a: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fonti non conosciu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Applicare con precisione e continuità le “precauzioni basate sulla trasmissione” per diminuire il rischio di trasmissione di infezioni da </a:t>
            </a: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fonti note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 (es. portatore sano di salmonell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Applicare con precisione e continuità le norme dell’HACCP per la filiera aliment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" y="624852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Servizio Epidemiologia e Prevenzione, ASL Caser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08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ffff"/>
                </a:solidFill>
                <a:latin typeface="Times New Roman"/>
              </a:rPr>
              <a:t>Definizione di malattia infettiv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Times New Roman"/>
              </a:rPr>
              <a:t>Per malattia infettiva si intende una affezione causata da microrganismi patogeni capaci di trasmettersi con modalità diverse all’uom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" y="6248520"/>
            <a:ext cx="8915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0" y="304560"/>
            <a:ext cx="60199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ffff"/>
                </a:solidFill>
                <a:latin typeface="Times New Roman"/>
              </a:rPr>
              <a:t>Fasi dello sviluppo di una malattia infettiv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59092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CONTATTO (Contaminazion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PENETRAZI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LOCALIZZAZI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INFEZI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MALATT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" y="6248520"/>
            <a:ext cx="8915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477120" y="2666880"/>
            <a:ext cx="380880" cy="3124440"/>
          </a:xfrm>
          <a:custGeom>
            <a:avLst/>
            <a:gdLst>
              <a:gd name="textAreaLeft" fmla="*/ 0 w 380880"/>
              <a:gd name="textAreaRight" fmla="*/ 137520 w 380880"/>
              <a:gd name="textAreaTop" fmla="*/ 81360 h 3124440"/>
              <a:gd name="textAreaBottom" fmla="*/ 3043080 h 312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 rot="5400000">
            <a:off x="5790960" y="4190760"/>
            <a:ext cx="3429000" cy="380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INCUBAZIONE</a:t>
            </a:r>
            <a:endParaRPr b="1" i="1" lang="en-US" sz="20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3886200"/>
            <a:ext cx="304920" cy="2209680"/>
          </a:xfrm>
          <a:custGeom>
            <a:avLst/>
            <a:gdLst>
              <a:gd name="textAreaLeft" fmla="*/ 194760 w 304920"/>
              <a:gd name="textAreaRight" fmla="*/ 305280 w 30492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 rot="5400000">
            <a:off x="-1800" y="4268520"/>
            <a:ext cx="3276720" cy="530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FETTANTE</a:t>
            </a:r>
            <a:endParaRPr b="0" lang="en-US" sz="1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6" name=""/>
          <p:cNvSpPr txBox="1"/>
          <p:nvPr/>
        </p:nvSpPr>
        <p:spPr>
          <a:xfrm rot="5400000">
            <a:off x="-76320" y="441972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ASE</a:t>
            </a:r>
            <a:endParaRPr b="0" lang="en-US" sz="1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ffff"/>
                </a:solidFill>
                <a:latin typeface="Times New Roman"/>
              </a:rPr>
              <a:t>Fattori limitanti/facilitanti </a:t>
            </a:r>
            <a:br>
              <a:rPr sz="4400"/>
            </a:br>
            <a:r>
              <a:rPr b="0" lang="it-IT" sz="4400" spc="-1" strike="noStrike">
                <a:solidFill>
                  <a:srgbClr val="00ffff"/>
                </a:solidFill>
                <a:latin typeface="Times New Roman"/>
              </a:rPr>
              <a:t>legati al germ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7760" y="2361960"/>
            <a:ext cx="60958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Times New Roman"/>
              </a:rPr>
              <a:t>Capacità infettan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Times New Roman"/>
              </a:rPr>
              <a:t>Via di trasmissio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Times New Roman"/>
              </a:rPr>
              <a:t>Sopravvivenza nell’ambien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Times New Roman"/>
              </a:rPr>
              <a:t>Esistenza di serbato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0ffff"/>
                </a:solidFill>
                <a:latin typeface="Times New Roman"/>
              </a:rPr>
              <a:t>Capacità infettante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5640" y="19807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Times New Roman"/>
              </a:rPr>
              <a:t>INFETTIVITA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Capacità di diffondersi e moltiplicarsi nell’osp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362320" y="3505320"/>
            <a:ext cx="64767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PATOGENICITA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apacità di causare la malatt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438280" y="4876920"/>
            <a:ext cx="6477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VIRULENZ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apacità di causare danni gravi all’osp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" y="6248520"/>
            <a:ext cx="8915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0ffff"/>
                </a:solidFill>
                <a:latin typeface="Times New Roman"/>
              </a:rPr>
              <a:t>Infettivita’</a:t>
            </a:r>
            <a:br>
              <a:rPr sz="4800"/>
            </a:b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Times New Roman"/>
              </a:rPr>
              <a:t>Capacità di diffondersi e moltiplicarsi nell’ospite = CONTAGIOSITA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Times New Roman"/>
              </a:rPr>
              <a:t>Percentuale di casi secondari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077320" y="2819520"/>
            <a:ext cx="304560" cy="1218960"/>
          </a:xfrm>
          <a:custGeom>
            <a:avLst/>
            <a:gdLst>
              <a:gd name="textAreaLeft" fmla="*/ 40680 w 304560"/>
              <a:gd name="textAreaRight" fmla="*/ 263880 w 304560"/>
              <a:gd name="textAreaTop" fmla="*/ 213120 h 1218960"/>
              <a:gd name="textAreaBottom" fmla="*/ 88380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6248520"/>
            <a:ext cx="8915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0ffff"/>
                </a:solidFill>
                <a:latin typeface="Times New Roman"/>
              </a:rPr>
              <a:t>Patogenicita’</a:t>
            </a:r>
            <a:br>
              <a:rPr sz="4800"/>
            </a:b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6933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it-IT" sz="3600" spc="-1" strike="noStrike">
                <a:solidFill>
                  <a:srgbClr val="ffffff"/>
                </a:solidFill>
                <a:latin typeface="Times New Roman"/>
              </a:rPr>
              <a:t>Capacità di causare la malatt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it-IT" sz="3600" spc="-1" strike="noStrike">
                <a:solidFill>
                  <a:srgbClr val="ffffff"/>
                </a:solidFill>
                <a:latin typeface="Times New Roman"/>
              </a:rPr>
              <a:t>Percentuale di malati rispetto agli infetti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229600" y="2286000"/>
            <a:ext cx="685800" cy="2057400"/>
          </a:xfrm>
          <a:custGeom>
            <a:avLst/>
            <a:gdLst>
              <a:gd name="textAreaLeft" fmla="*/ 91800 w 685800"/>
              <a:gd name="textAreaRight" fmla="*/ 594000 w 685800"/>
              <a:gd name="textAreaTop" fmla="*/ 384840 h 2057400"/>
              <a:gd name="textAreaBottom" fmla="*/ 136800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080" stAng="-5400000" swAng="5400000"/>
                <a:lnTo>
                  <a:pt x="21600" y="10320"/>
                </a:lnTo>
                <a:arcTo wR="21600" hR="8080" stAng="0" swAng="2796926"/>
                <a:lnTo>
                  <a:pt x="7200" y="21138"/>
                </a:lnTo>
                <a:lnTo>
                  <a:pt x="0" y="17280"/>
                </a:lnTo>
                <a:lnTo>
                  <a:pt x="7200" y="12498"/>
                </a:lnTo>
                <a:lnTo>
                  <a:pt x="7200" y="15698"/>
                </a:lnTo>
                <a:arcTo wR="21600" hR="8080" stAng="2796926" swAng="-2617099"/>
                <a:lnTo>
                  <a:pt x="21391" y="9200"/>
                </a:lnTo>
                <a:arcTo wR="21600" hR="8080" stAng="-179827" swAng="-5220173"/>
                <a:close/>
              </a:path>
              <a:path fill="darkenLess" w="21600" h="21600">
                <a:moveTo>
                  <a:pt x="0" y="0"/>
                </a:moveTo>
                <a:arcTo wR="21600" hR="8080" stAng="-5400000" swAng="5400000"/>
                <a:lnTo>
                  <a:pt x="21600" y="10320"/>
                </a:lnTo>
                <a:arcTo wR="21600" hR="8080" stAng="0" swAng="-179827"/>
                <a:lnTo>
                  <a:pt x="21391" y="9200"/>
                </a:lnTo>
                <a:arcTo wR="21600" hR="8080" stAng="-179827" swAng="-5220173"/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6248520"/>
            <a:ext cx="8915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0ffff"/>
                </a:solidFill>
                <a:latin typeface="Times New Roman"/>
              </a:rPr>
              <a:t>Virulenza</a:t>
            </a:r>
            <a:br>
              <a:rPr sz="4800"/>
            </a:b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6933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it-IT" sz="3600" spc="-1" strike="noStrike">
                <a:solidFill>
                  <a:srgbClr val="ffffff"/>
                </a:solidFill>
                <a:latin typeface="Times New Roman"/>
              </a:rPr>
              <a:t>Capacità di causare danni gravi all’ospi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it-IT" sz="3600" spc="-1" strike="noStrike">
                <a:solidFill>
                  <a:srgbClr val="ffffff"/>
                </a:solidFill>
                <a:latin typeface="Times New Roman"/>
              </a:rPr>
              <a:t>Percentuale di casi gravi/letali rispetto a tutti gli ammalati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848720" y="2362320"/>
            <a:ext cx="685800" cy="2057400"/>
          </a:xfrm>
          <a:custGeom>
            <a:avLst/>
            <a:gdLst>
              <a:gd name="textAreaLeft" fmla="*/ 91800 w 685800"/>
              <a:gd name="textAreaRight" fmla="*/ 594000 w 685800"/>
              <a:gd name="textAreaTop" fmla="*/ 384840 h 2057400"/>
              <a:gd name="textAreaBottom" fmla="*/ 136800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080" stAng="-5400000" swAng="5400000"/>
                <a:lnTo>
                  <a:pt x="21600" y="10320"/>
                </a:lnTo>
                <a:arcTo wR="21600" hR="8080" stAng="0" swAng="2796926"/>
                <a:lnTo>
                  <a:pt x="7200" y="21138"/>
                </a:lnTo>
                <a:lnTo>
                  <a:pt x="0" y="17280"/>
                </a:lnTo>
                <a:lnTo>
                  <a:pt x="7200" y="12498"/>
                </a:lnTo>
                <a:lnTo>
                  <a:pt x="7200" y="15698"/>
                </a:lnTo>
                <a:arcTo wR="21600" hR="8080" stAng="2796926" swAng="-2617099"/>
                <a:lnTo>
                  <a:pt x="21391" y="9200"/>
                </a:lnTo>
                <a:arcTo wR="21600" hR="8080" stAng="-179827" swAng="-5220173"/>
                <a:close/>
              </a:path>
              <a:path fill="darkenLess" w="21600" h="21600">
                <a:moveTo>
                  <a:pt x="0" y="0"/>
                </a:moveTo>
                <a:arcTo wR="21600" hR="8080" stAng="-5400000" swAng="5400000"/>
                <a:lnTo>
                  <a:pt x="21600" y="10320"/>
                </a:lnTo>
                <a:arcTo wR="21600" hR="8080" stAng="0" swAng="-179827"/>
                <a:lnTo>
                  <a:pt x="21391" y="9200"/>
                </a:lnTo>
                <a:arcTo wR="21600" hR="8080" stAng="-179827" swAng="-5220173"/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" y="6248520"/>
            <a:ext cx="8915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ffff"/>
                </a:solidFill>
                <a:latin typeface="Times New Roman"/>
              </a:rPr>
              <a:t>“</a:t>
            </a:r>
            <a:r>
              <a:rPr b="0" lang="it-IT" sz="4400" spc="-1" strike="noStrike">
                <a:solidFill>
                  <a:srgbClr val="00ffff"/>
                </a:solidFill>
                <a:latin typeface="Times New Roman"/>
              </a:rPr>
              <a:t>Gravità” di una malattia a livello individuale e di popolazion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09320" y="1828440"/>
            <a:ext cx="6629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A LIVELLO INDIVIDU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La letalità (fase estrema della virulenz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è un ottimo indicatore della gravità di una malatti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362320" y="388620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A LIVELLO DI POPOLAZI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362320" y="441972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L’indicatore è più complesso…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510552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Infettività (incidenza) X letalit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6248520"/>
            <a:ext cx="8915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omenico.protano</cp:lastModifiedBy>
  <dcterms:modified xsi:type="dcterms:W3CDTF">2013-06-25T07:55:39Z</dcterms:modified>
  <cp:revision>15</cp:revision>
  <dc:subject/>
  <dc:title>PowerPoint Presentation</dc:title>
</cp:coreProperties>
</file>